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A2C3-5277-4983-8843-3747CA2B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8C11-577F-4E12-9128-39FD05E6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C2D4-9BE3-4CC6-8716-60F55A645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20BD-7B7E-4C2E-8AA7-F326D6521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673A-5ED4-4D27-AB48-032F42ED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6E46-3A2B-4947-A168-376C52C1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9C4C-A03F-4CAD-B46C-84551221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99ED-C6F7-45CB-992B-06FEA302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2029-033F-44E9-A12F-0A9FA96F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3069-717E-4458-9286-7B09E2EA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9AA4-F7B6-4066-80FB-4FE2D7D1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07FD-59D3-45AC-845C-27634847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Click to edit the title text format</a:t>
            </a:r>
            <a:endParaRPr b="1" lang="en-US" sz="3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lie </a:t>
            </a:r>
            <a:fld id="{08D7075D-C049-4CFC-B6C0-493F8CEB8BF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Zukunft Tarif: Gute ARBEIT – gutes G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BY-neu-kl.jpg" descr=""/>
          <p:cNvPicPr/>
          <p:nvPr/>
        </p:nvPicPr>
        <p:blipFill>
          <a:blip r:embed="rId2"/>
          <a:stretch/>
        </p:blipFill>
        <p:spPr>
          <a:xfrm>
            <a:off x="7772400" y="152280"/>
            <a:ext cx="1004760" cy="909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 rot="16200000">
            <a:off x="6181560" y="3612240"/>
            <a:ext cx="568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SzPct val="130000"/>
              <a:buFont typeface="Times New Roman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IG Metall Bayern/ 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TA/RPo/O/Praesent/010426ERA-Start-1/Verwendung mit Quellenangabe erwünsc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 u="sng">
                <a:solidFill>
                  <a:srgbClr val="cc0000"/>
                </a:solidFill>
                <a:uFillTx/>
                <a:latin typeface="Arial"/>
              </a:rPr>
              <a:t>Tarifrunde 2001/2002</a:t>
            </a:r>
            <a:endParaRPr b="1" lang="en-US" sz="41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09680" y="3200040"/>
            <a:ext cx="4572000" cy="180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00"/>
              </a:gs>
              <a:gs pos="100000">
                <a:srgbClr val="ffffff"/>
              </a:gs>
            </a:gsLst>
            <a:lin ang="13500000"/>
          </a:gradFill>
          <a:ln w="5724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8000" spc="-1" strike="noStrike">
                <a:solidFill>
                  <a:srgbClr val="000099"/>
                </a:solidFill>
                <a:latin typeface="Arial Black"/>
              </a:rPr>
              <a:t>E R A</a:t>
            </a:r>
            <a:endParaRPr b="1" lang="en-US" sz="8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Black"/>
              </a:rPr>
              <a:t>in Bayer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86E6-F816-4B40-B98A-96D30466E1E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81040" y="761760"/>
            <a:ext cx="7270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Belegung der Lohngruppen: Zeitlohn</a:t>
            </a:r>
            <a:endParaRPr b="1" lang="en-US" sz="2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81280" y="1728720"/>
            <a:ext cx="5181840" cy="204804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ohngruppe 1 –  6 = 52.623 Beschäftigte = 26,8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ohngruppe 7 –10 = 143.240 Beschäftigte = 73,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samt: 195.863 Beschäftigte = 10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800" y="1724040"/>
            <a:ext cx="3048120" cy="46890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  </a:t>
            </a:r>
            <a:r>
              <a:rPr b="1" lang="de-DE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Zahl 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Lohngruppe       Beschäftig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7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2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2.7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3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1.9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4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2.3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5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20.2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6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24.5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7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43.2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8 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51.4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9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37.1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10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 11.3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samt: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95.8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r>
              <a:rPr b="1" lang="de-DE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= 45 % der gewerbl. Arbeit-nehmer der bayerischen Metall- und Elektroindust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81280" y="3699000"/>
            <a:ext cx="5181840" cy="2601360"/>
          </a:xfrm>
          <a:prstGeom prst="rect">
            <a:avLst/>
          </a:prstGeom>
          <a:noFill/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azit: Ein Verzicht von ca. 53.000 Beschäftigten für eine Veränderung der Entgeltstrukturen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kommt nicht in F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Konsequenz:  Forderung eines Zuschlags im Zeitlohn für die Lohngruppen 1 bis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97760" y="6294600"/>
            <a:ext cx="17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Quelle: VBM Statist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6B5F-58E4-4717-A494-56FCCE8F4CA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023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Effektivverdienste (1997) nach Regionen</a:t>
            </a:r>
            <a:br>
              <a:rPr sz="24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ohngruppe 7 und Gehaltsgruppe III/4.Gruppenjahr</a:t>
            </a:r>
            <a:endParaRPr b="1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0" y="1724040"/>
          <a:ext cx="8861400" cy="49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24040"/>
                    <a:ext cx="886140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1889280" y="544356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Keine Angab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CB27-B74F-40C0-8174-B24125002FC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Regionale Unterschiede im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ehaltsniveau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is: Effektivgehälter 1997 - Gehaltsgruppe III</a:t>
            </a:r>
            <a:endParaRPr b="1" lang="en-US" sz="2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581040" y="1724040"/>
          <a:ext cx="7571880" cy="4617720"/>
        </p:xfrm>
        <a:graphic>
          <a:graphicData uri="http://schemas.openxmlformats.org/drawingml/2006/table">
            <a:tbl>
              <a:tblPr/>
              <a:tblGrid>
                <a:gridCol w="2013480"/>
                <a:gridCol w="3222360"/>
                <a:gridCol w="483480"/>
                <a:gridCol w="1852560"/>
              </a:tblGrid>
              <a:tr h="92124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gio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aye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eschäftigte in Proz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ller Angestellten 7,6 Proz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457200" indent="-457200"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if zu effekt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GrJ   9,4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GrJ 14,0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836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burg (West-Ost Oberfranke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,34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67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,71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ünchen / Oberbay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77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,98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,04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iederbayern / Oberpfal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,48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,1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,61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rdbay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,62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11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,56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chwab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,91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,6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,47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terfrank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,51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29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,29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8670960" y="2119320"/>
            <a:ext cx="183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5BC2-6582-41B2-95CF-08A407E9611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88640" y="762120"/>
            <a:ext cx="7964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 u="sng">
                <a:solidFill>
                  <a:srgbClr val="cc0000"/>
                </a:solidFill>
                <a:uFillTx/>
                <a:latin typeface="Arial"/>
              </a:rPr>
              <a:t>Regionale Unterschiede im Lohnniveau</a:t>
            </a:r>
            <a:br>
              <a:rPr sz="3000"/>
            </a:b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asis: Effektivlöhne 1997 - Zeitlöhner Lohngruppe 7</a:t>
            </a:r>
            <a:endParaRPr b="1" lang="en-US" sz="2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81040" y="1724040"/>
          <a:ext cx="7679880" cy="4647960"/>
        </p:xfrm>
        <a:graphic>
          <a:graphicData uri="http://schemas.openxmlformats.org/drawingml/2006/table">
            <a:tbl>
              <a:tblPr/>
              <a:tblGrid>
                <a:gridCol w="2042280"/>
                <a:gridCol w="3268440"/>
                <a:gridCol w="490320"/>
                <a:gridCol w="1878840"/>
              </a:tblGrid>
              <a:tr h="91656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gio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ay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eschäftigte in Proz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ller Gewerblichen  21,53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457200" indent="-457200"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if zu effekt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457200"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,02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653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burg (West-Ost Oberfranke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 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,5  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ünchen / Oberbay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,77 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,7 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iederbayern / Oberpfal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,43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,86 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rdbay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,4 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,68 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chwab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,31 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,47 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terfrank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,4 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,98 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8670960" y="2119320"/>
            <a:ext cx="183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14778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39BF-3B9D-47D5-8C91-68BFA39A590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cc0000"/>
                </a:solidFill>
                <a:uFillTx/>
                <a:latin typeface="Arial"/>
              </a:rPr>
              <a:t>Tarifrunde 2001 / 2002</a:t>
            </a:r>
            <a:endParaRPr b="1" lang="en-US" sz="35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emen und Vorgehe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cc0000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ER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cc0000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Tarifliche Vereinbarung zur Entgeltumwandlu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cc0000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Lohn- und Gehaltserhöhung 2002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cc0000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Qualifizierung, Weiterbildu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cc0000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Teil eines 13. Monatseinkomme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C138-6AF8-49B7-AD61-AFAD424B10B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cc0000"/>
                </a:solidFill>
                <a:uFillTx/>
                <a:latin typeface="Arial"/>
              </a:rPr>
              <a:t>Tarifrunde 2001 / 2002</a:t>
            </a:r>
            <a:endParaRPr b="1" lang="en-US" sz="35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80680" y="1723680"/>
            <a:ext cx="8196120" cy="4691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Narrow"/>
              </a:rPr>
              <a:t>ER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 Black"/>
              </a:rPr>
              <a:t>Ziel: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rreichen eines gemeinsamen Entgeltrahmentarifvertrages mit einer </a:t>
            </a:r>
            <a:endParaRPr b="1" lang="en-US" sz="2400" spc="-1" strike="noStrike">
              <a:solidFill>
                <a:srgbClr val="cc0000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emeinsamen Entgeltlinie </a:t>
            </a:r>
            <a:endParaRPr b="1" lang="en-US" sz="2400" spc="-1" strike="noStrike">
              <a:solidFill>
                <a:srgbClr val="cc0000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egebenenfalls über einen ersten Zwischenschritt 2002</a:t>
            </a:r>
            <a:endParaRPr b="1" lang="en-US" sz="2400" spc="-1" strike="noStrike">
              <a:solidFill>
                <a:srgbClr val="cc0000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 Black"/>
              </a:rPr>
              <a:t>Vorgehen:</a:t>
            </a:r>
            <a:endParaRPr b="1" lang="en-US" sz="2400" spc="-1" strike="noStrike">
              <a:solidFill>
                <a:srgbClr val="cc0000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)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Kündigung der Entgeltbestimmungen </a:t>
            </a:r>
            <a:endParaRPr b="1" lang="en-US" sz="2400" spc="-1" strike="noStrike">
              <a:solidFill>
                <a:srgbClr val="cc0000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us dem Arbeiter-Manteltarifvertrag</a:t>
            </a:r>
            <a:endParaRPr b="1" lang="en-US" sz="2400" spc="-1" strike="noStrike">
              <a:solidFill>
                <a:srgbClr val="cc0000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)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Kündigung des Manteltarifvertrages</a:t>
            </a:r>
            <a:endParaRPr b="1" lang="en-US" sz="2400" spc="-1" strike="noStrike">
              <a:solidFill>
                <a:srgbClr val="cc0000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gestellte zum 28.2.2002</a:t>
            </a:r>
            <a:endParaRPr b="1" lang="en-US" sz="2400" spc="-1" strike="noStrike">
              <a:solidFill>
                <a:srgbClr val="cc0000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7050-CB6A-4CFE-80AC-3FF3EC0B761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cc0000"/>
                </a:solidFill>
                <a:uFillTx/>
                <a:latin typeface="Arial"/>
              </a:rPr>
              <a:t>Tarifrunde 2001 / 2002</a:t>
            </a:r>
            <a:endParaRPr b="1" lang="en-US" sz="35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777240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)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Diskussion über einen ersten Schritt zur Angleichung der Entgeltlinie:</a:t>
            </a:r>
            <a:endParaRPr b="1" lang="en-US" sz="2400" spc="-1" strike="noStrike">
              <a:solidFill>
                <a:srgbClr val="cc0000"/>
              </a:solidFill>
              <a:latin typeface="Arial Narrow"/>
            </a:endParaRPr>
          </a:p>
          <a:p>
            <a:pPr lvl="3" marL="17524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„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Zuschlag“ für Zeitlöhner in Höhe von X %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oder alternativ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rhöhung des Punktwertes bei der Leistungsbeurteilung für Gewerbliche</a:t>
            </a:r>
            <a:endParaRPr b="1" lang="en-US" sz="2800" spc="-1" strike="noStrike">
              <a:solidFill>
                <a:srgbClr val="cc0000"/>
              </a:solidFill>
              <a:latin typeface="Arial Narrow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 Narrow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estlegung einer gemeinsamen untersten tariflichen Entgeltlinie (Basis LGr. 2 Arbeiter)</a:t>
            </a:r>
            <a:endParaRPr b="1" lang="en-US" sz="2800" spc="-1" strike="noStrike">
              <a:solidFill>
                <a:srgbClr val="cc0000"/>
              </a:solidFill>
              <a:latin typeface="Arial Narrow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BD89-D4F9-43F1-872F-E50BFB62F1A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cc0000"/>
                </a:solidFill>
                <a:uFillTx/>
                <a:latin typeface="Arial"/>
              </a:rPr>
              <a:t>Tarifrunde 2001 / 2002</a:t>
            </a:r>
            <a:endParaRPr b="1" lang="en-US" sz="35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7877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2.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Tarifliche Vereinbarung zur Entgeltumwandlu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752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- Zentrale  oder regionale Regelung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(spätestens 31.12.2001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752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 Black"/>
              </a:rPr>
              <a:t>Vorgehen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752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)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ersuch bis Mitte 2002 ein Syste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2096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ür betriebliche Altersvorsorge zu verhandeln</a:t>
            </a:r>
            <a:endParaRPr b="1" i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4" marL="22096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Pensionskasse, Pensionsfonds)</a:t>
            </a:r>
            <a:endParaRPr b="1" i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3" marL="1752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752480" indent="-380880">
              <a:spcBef>
                <a:spcPts val="601"/>
              </a:spcBef>
              <a:buClr>
                <a:srgbClr val="000000"/>
              </a:buClr>
              <a:buFont typeface="Arial Narrow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Keine Verbindung des Themas Altersvorsorge mit Tarifrunde 200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7927-D1F0-4275-9CC4-0CC2AD42F3A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cc0000"/>
                </a:solidFill>
                <a:uFillTx/>
                <a:latin typeface="Arial"/>
              </a:rPr>
              <a:t>Tarifrunde 2001 / 2002</a:t>
            </a:r>
            <a:endParaRPr b="1" lang="en-US" sz="35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81040" y="1752480"/>
            <a:ext cx="815328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Narrow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Lohn- und Gehaltserhöhung 2002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 Black"/>
              </a:rPr>
              <a:t>Vorgehen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)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b September: Diskussion über Forderungsvolume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- 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inklusive erster Schritt in Richtung einer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einheitlichen Entgeltlini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(„Zuschlag“ für Zeitlöhner etc.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)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vember / Dezember 2001: Delegiertenversammlunge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)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nuar 2002:  Beschluss Tarifkommiss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 Narrow"/>
              </a:rPr>
              <a:t>Wichtig: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Verhindern, dass die Lohn- und Gehaltshöhe durch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sonstige Themen belastet wird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DDD9-6488-4A80-9553-B598A420930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cc0000"/>
                </a:solidFill>
                <a:uFillTx/>
                <a:latin typeface="Arial"/>
              </a:rPr>
              <a:t>Tarifrunde 2001 / 2002</a:t>
            </a:r>
            <a:endParaRPr b="1" lang="en-US" sz="35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34076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Qualifizierung und Weiterbildung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336600"/>
                </a:solidFill>
                <a:latin typeface="Arial Black"/>
              </a:rPr>
              <a:t>Vorgehen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 Blac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Keine tarifpolitischen Aktivitäten in 2001 oder Tarifrunde 2002 zum Thema Qualifizierung / Weiterbildu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s Thema ist im Rahmen der ERA-Verhandlungen zu bearbeiten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29DD-E642-45BD-B82C-29D37B070B4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Inhalte der Präsentation</a:t>
            </a:r>
            <a:endParaRPr b="1" lang="en-US" sz="3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Das Tarifwerk heu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Konzept: Tarifwerk zukünfti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Umwandlung von Entlohnungsarten und Leistungs-komponenten am Beispiel Lohngruppe 7/Gehaltsgruppe III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Wirkung eines ersten Angleichungsschrittes für Zeitlöhn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Ziel: Erster Schritt –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gemeinsames Einstiegsentgelt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B5DF-06FD-4EC7-ABD0-3B0F323ED65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cc0000"/>
                </a:solidFill>
                <a:uFillTx/>
                <a:latin typeface="Arial"/>
              </a:rPr>
              <a:t>Tarifrunde 2001 / 2002</a:t>
            </a:r>
            <a:endParaRPr b="1" lang="en-US" sz="35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0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5.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Teil eines 13. Monatseinkommen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 Blac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eine Forderung zum Thema Teil eines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3. Monatseinkommen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800" spc="-1" strike="noStrike">
                <a:solidFill>
                  <a:srgbClr val="336600"/>
                </a:solidFill>
                <a:latin typeface="Arial Black"/>
              </a:rPr>
              <a:t>Vorgehen: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arauf einstellen, dass die Kündigung durch die Arbeitgeber erfolgt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781F-F222-411E-8A7C-BB77E0ECFED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ERA ein tarifpolitisches Projekt</a:t>
            </a:r>
            <a:endParaRPr b="1" lang="en-US" sz="3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46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ur erreichbar wenn sich viele intensiv beteiligen: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ei der betrieblichen Debatte (BR/Vertrauenskörper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ei Schulungs- und Informationsveranstaltunge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ei Funktionärs-/Mitgliederversammlunge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ei Betriebsversammlunge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ei Gesprächen mit Mitgliedern/Nichtmitglieder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ei der notwendigen Mobilisierung zur Tarifrund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91F9-7C7D-4803-A5FE-B5D65675504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1353960" y="1738440"/>
            <a:ext cx="6566040" cy="372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ielen Dank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ür die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ufmerksamkeit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AC9A-CAC8-4E7E-AA54-C36702DE87BC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Inhalte der Präsentation II</a:t>
            </a:r>
            <a:endParaRPr b="1" lang="en-US" sz="3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elegung der Gehaltsgruppen zur ersten Bereinigu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ür das Einstiegseinkomme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elegung der Lohngruppen im Zeitlohn Bayer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ffektivverdienste (1997) nach Region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gionale Unterschiede im Gehaltsniveau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asis: Effektivgehälter 1997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arifrunde 2001 / 2002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men und Vorgehe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8817-8E74-44EB-B4C2-E684A8725B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Das Tarifwerk heute</a:t>
            </a:r>
            <a:endParaRPr b="1" lang="en-US" sz="3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3120" y="2362320"/>
            <a:ext cx="236232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antel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arifver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rbei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mit all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Entgeltbestimmunge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1447920"/>
            <a:ext cx="2590920" cy="7617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Lohn- und Gehalts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arifvertr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it Ausbildungsvergüt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2362320"/>
            <a:ext cx="2209680" cy="609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ltersteilze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3124080"/>
            <a:ext cx="220968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eschäftigung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rüc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962520"/>
            <a:ext cx="220968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eschäftigung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ich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4800600"/>
            <a:ext cx="220968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Vermögenswirks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eist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5641920"/>
            <a:ext cx="2209680" cy="609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nstige Verträ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39000" y="2362320"/>
            <a:ext cx="2342880" cy="2971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antel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arifver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gestell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mit all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Entgeltbestimm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3D4E-1E08-411B-ACEA-E43ABD15503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Das zukünftige Tarifwerk</a:t>
            </a:r>
            <a:endParaRPr b="1" lang="en-US" sz="3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1447920"/>
            <a:ext cx="2057400" cy="3047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ntel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arifvert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rbe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447920"/>
            <a:ext cx="4724280" cy="76176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Neuer gemeinsamer Entgeltrahmentarifver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für Arbeiter, Angestellte u. Auszubilde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2362320"/>
            <a:ext cx="4724280" cy="761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ohn-/Gehalts- 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usbildungsvergütungsabkom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5791320"/>
            <a:ext cx="4724280" cy="5331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onstige Verträ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3200400"/>
            <a:ext cx="2133720" cy="3124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ntel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arifvert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gestell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3276720"/>
            <a:ext cx="4724280" cy="5331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ltersteilz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3962520"/>
            <a:ext cx="4724280" cy="4572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eschäftigungsbrüc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4572000"/>
            <a:ext cx="4724280" cy="4572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eschäftigungssich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5181480"/>
            <a:ext cx="4724280" cy="4572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ermögenswirksame Leist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A270-58C5-4686-87B8-326D1607359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875880"/>
            <a:ext cx="807732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Umwandeln bisheriger Entlohnungsarten und Leistungskomponenten </a:t>
            </a:r>
            <a:br>
              <a:rPr sz="3000"/>
            </a:b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am Beispiel Lohngr. 7/GGr III</a:t>
            </a:r>
            <a:endParaRPr b="1" lang="en-US" sz="2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29600" y="620064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Zahlen in 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74760" y="3075120"/>
            <a:ext cx="1415880" cy="3179520"/>
            <a:chOff x="374760" y="3075120"/>
            <a:chExt cx="1415880" cy="3179520"/>
          </a:xfrm>
        </p:grpSpPr>
        <p:sp>
          <p:nvSpPr>
            <p:cNvPr id="72" name=""/>
            <p:cNvSpPr/>
            <p:nvPr/>
          </p:nvSpPr>
          <p:spPr>
            <a:xfrm>
              <a:off x="374760" y="5654520"/>
              <a:ext cx="1415880" cy="600120"/>
            </a:xfrm>
            <a:prstGeom prst="flowChartProcess">
              <a:avLst/>
            </a:prstGeom>
            <a:solidFill>
              <a:srgbClr val="c0c0c0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0800" y="3675240"/>
              <a:ext cx="1046160" cy="19792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0800" y="3075120"/>
              <a:ext cx="1046160" cy="600120"/>
            </a:xfrm>
            <a:prstGeom prst="flowChartProcess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12920" y="5713560"/>
              <a:ext cx="132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 Narrow"/>
                </a:rPr>
                <a:t>Zeitloh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0800000">
              <a:off x="822240" y="3609720"/>
              <a:ext cx="4852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Grundlohn 3.32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01480" y="3137040"/>
              <a:ext cx="11653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 Narrow"/>
                </a:rPr>
                <a:t>Leistungs-zulage 73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153040" y="1976400"/>
            <a:ext cx="1535040" cy="4278240"/>
            <a:chOff x="5153040" y="1976400"/>
            <a:chExt cx="1535040" cy="4278240"/>
          </a:xfrm>
        </p:grpSpPr>
        <p:sp>
          <p:nvSpPr>
            <p:cNvPr id="79" name=""/>
            <p:cNvSpPr/>
            <p:nvPr/>
          </p:nvSpPr>
          <p:spPr>
            <a:xfrm>
              <a:off x="5153040" y="5654520"/>
              <a:ext cx="1535040" cy="600120"/>
            </a:xfrm>
            <a:prstGeom prst="flowChartProcess">
              <a:avLst/>
            </a:prstGeom>
            <a:solidFill>
              <a:srgbClr val="c0c0c0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32400" y="2955960"/>
              <a:ext cx="1114560" cy="2698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432400" y="2475000"/>
              <a:ext cx="1114560" cy="480960"/>
            </a:xfrm>
            <a:prstGeom prst="flowChartProcess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53040" y="5713560"/>
              <a:ext cx="153504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 Narrow"/>
                </a:rPr>
                <a:t>Geha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6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. Gruppenjah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 rot="5400000">
              <a:off x="5778720" y="3323880"/>
              <a:ext cx="48528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8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32400" y="4514760"/>
              <a:ext cx="118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 Narrow"/>
                </a:rPr>
                <a:t>Grund-geh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r>
                <a:rPr b="1" lang="de-DE" sz="2400" spc="-1" strike="noStrike">
                  <a:solidFill>
                    <a:srgbClr val="000000"/>
                  </a:solidFill>
                  <a:latin typeface="Arial Narrow"/>
                </a:rPr>
                <a:t>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72000" y="1976400"/>
              <a:ext cx="111312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 Narrow"/>
                </a:rPr>
                <a:t>Leistungs-zul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549600" y="2355840"/>
            <a:ext cx="1465200" cy="3898800"/>
            <a:chOff x="3549600" y="2355840"/>
            <a:chExt cx="1465200" cy="3898800"/>
          </a:xfrm>
        </p:grpSpPr>
        <p:sp>
          <p:nvSpPr>
            <p:cNvPr id="87" name=""/>
            <p:cNvSpPr/>
            <p:nvPr/>
          </p:nvSpPr>
          <p:spPr>
            <a:xfrm>
              <a:off x="3549600" y="5654520"/>
              <a:ext cx="1465200" cy="600120"/>
            </a:xfrm>
            <a:prstGeom prst="flowChartProcess">
              <a:avLst/>
            </a:prstGeom>
            <a:solidFill>
              <a:srgbClr val="c0c0c0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 rot="5400000">
              <a:off x="3291840" y="4142520"/>
              <a:ext cx="1979280" cy="10447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Grundlohn 3.32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63800" y="2355840"/>
              <a:ext cx="1025640" cy="1319400"/>
            </a:xfrm>
            <a:prstGeom prst="flowChartProcess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Prämi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1.3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49600" y="5713560"/>
              <a:ext cx="146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 Narrow"/>
                </a:rPr>
                <a:t>Präm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37040" y="4873680"/>
              <a:ext cx="83808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688080" y="1816200"/>
            <a:ext cx="2019240" cy="4438440"/>
            <a:chOff x="6688080" y="1816200"/>
            <a:chExt cx="2019240" cy="4438440"/>
          </a:xfrm>
        </p:grpSpPr>
        <p:sp>
          <p:nvSpPr>
            <p:cNvPr id="93" name=""/>
            <p:cNvSpPr/>
            <p:nvPr/>
          </p:nvSpPr>
          <p:spPr>
            <a:xfrm>
              <a:off x="7035840" y="5654520"/>
              <a:ext cx="1639800" cy="600120"/>
            </a:xfrm>
            <a:prstGeom prst="flowChartProcess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74080" y="2938320"/>
              <a:ext cx="1326960" cy="2716200"/>
            </a:xfrm>
            <a:prstGeom prst="flowChart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74080" y="2416320"/>
              <a:ext cx="1326960" cy="539640"/>
            </a:xfrm>
            <a:prstGeom prst="flowChartProcess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88080" y="2355840"/>
              <a:ext cx="417600" cy="600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88080" y="4094280"/>
              <a:ext cx="417600" cy="6602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67440" y="5718240"/>
              <a:ext cx="173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Entgelt ne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6200000">
              <a:off x="7039440" y="3986640"/>
              <a:ext cx="1643400" cy="12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 Narrow"/>
                </a:rPr>
                <a:t>Grund-entgelt </a:t>
              </a:r>
              <a:r>
                <a:rPr b="1" lang="de-DE" sz="24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neu </a:t>
              </a:r>
              <a:r>
                <a:rPr b="1" lang="de-DE" sz="2400" spc="-1" strike="noStrike">
                  <a:solidFill>
                    <a:srgbClr val="000000"/>
                  </a:solidFill>
                  <a:latin typeface="Arial Narrow"/>
                </a:rPr>
                <a:t>10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105680" y="1816200"/>
              <a:ext cx="1396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967440" y="1938240"/>
              <a:ext cx="1739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13760" y="241632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X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40440" y="1882800"/>
              <a:ext cx="169560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Leistungsentge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ne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974960" y="2535120"/>
            <a:ext cx="1473120" cy="3719520"/>
            <a:chOff x="1974960" y="2535120"/>
            <a:chExt cx="1473120" cy="3719520"/>
          </a:xfrm>
        </p:grpSpPr>
        <p:sp>
          <p:nvSpPr>
            <p:cNvPr id="105" name=""/>
            <p:cNvSpPr/>
            <p:nvPr/>
          </p:nvSpPr>
          <p:spPr>
            <a:xfrm>
              <a:off x="1974960" y="5654520"/>
              <a:ext cx="1463400" cy="600120"/>
            </a:xfrm>
            <a:prstGeom prst="flowChartProcess">
              <a:avLst/>
            </a:prstGeom>
            <a:solidFill>
              <a:srgbClr val="c0c0c0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55680" y="3675240"/>
              <a:ext cx="1046160" cy="19792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55680" y="2535120"/>
              <a:ext cx="1046160" cy="1140120"/>
            </a:xfrm>
            <a:prstGeom prst="flowChartProcess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0800000">
              <a:off x="2416320" y="3600000"/>
              <a:ext cx="485280" cy="19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Grundlohn 3.32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55680" y="2655720"/>
              <a:ext cx="1041480" cy="10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Akkord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verdien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1.3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94040" y="5737320"/>
              <a:ext cx="14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 Narrow"/>
                </a:rPr>
                <a:t>Akkordloh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43080" y="2955960"/>
            <a:ext cx="836604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731A-8E78-40A9-8311-8DFA29CFEA9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8164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Wirkung eines Angleichungsschrittes </a:t>
            </a:r>
            <a:br>
              <a:rPr sz="3000"/>
            </a:b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für Zeitlöhner</a:t>
            </a:r>
            <a:endParaRPr b="1" lang="en-US" sz="3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108920" y="6216480"/>
            <a:ext cx="14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Zahlen in D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968720" y="1836720"/>
            <a:ext cx="1478160" cy="4363920"/>
            <a:chOff x="4968720" y="1836720"/>
            <a:chExt cx="1478160" cy="4363920"/>
          </a:xfrm>
        </p:grpSpPr>
        <p:sp>
          <p:nvSpPr>
            <p:cNvPr id="115" name=""/>
            <p:cNvSpPr/>
            <p:nvPr/>
          </p:nvSpPr>
          <p:spPr>
            <a:xfrm>
              <a:off x="4968720" y="5605560"/>
              <a:ext cx="1478160" cy="595080"/>
            </a:xfrm>
            <a:prstGeom prst="flowChartProcess">
              <a:avLst/>
            </a:prstGeom>
            <a:solidFill>
              <a:srgbClr val="c0c0c0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8720" y="2930400"/>
              <a:ext cx="1073160" cy="26751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38720" y="2454120"/>
              <a:ext cx="1073160" cy="476280"/>
            </a:xfrm>
            <a:prstGeom prst="flowChartProcess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5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68720" y="5664240"/>
              <a:ext cx="147816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 Narrow"/>
                </a:rPr>
                <a:t>Geha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4. Gruppenjah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5400000">
              <a:off x="5571720" y="3291120"/>
              <a:ext cx="48528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8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38720" y="4476600"/>
              <a:ext cx="1141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 Narrow"/>
                </a:rPr>
                <a:t>Grund-geha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40160" y="1836720"/>
              <a:ext cx="10717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 Narrow"/>
                </a:rPr>
                <a:t>Leistungs-zul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424320" y="2335320"/>
            <a:ext cx="1411200" cy="3865320"/>
            <a:chOff x="3424320" y="2335320"/>
            <a:chExt cx="1411200" cy="3865320"/>
          </a:xfrm>
        </p:grpSpPr>
        <p:sp>
          <p:nvSpPr>
            <p:cNvPr id="123" name=""/>
            <p:cNvSpPr/>
            <p:nvPr/>
          </p:nvSpPr>
          <p:spPr>
            <a:xfrm>
              <a:off x="3424320" y="5605560"/>
              <a:ext cx="1411200" cy="595080"/>
            </a:xfrm>
            <a:prstGeom prst="flowChartProcess">
              <a:avLst/>
            </a:prstGeom>
            <a:solidFill>
              <a:srgbClr val="c0c0c0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5400000">
              <a:off x="3148560" y="4120560"/>
              <a:ext cx="1962360" cy="10051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Grundlohn 3.32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27360" y="2335320"/>
              <a:ext cx="1005120" cy="1307880"/>
            </a:xfrm>
            <a:prstGeom prst="flowChartProcess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Prämi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1.3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24320" y="5664240"/>
              <a:ext cx="141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 Narrow"/>
                </a:rPr>
                <a:t>Präm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94120" y="4832280"/>
              <a:ext cx="80640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446880" y="1800360"/>
            <a:ext cx="2160720" cy="4400280"/>
            <a:chOff x="6446880" y="1800360"/>
            <a:chExt cx="2160720" cy="4400280"/>
          </a:xfrm>
        </p:grpSpPr>
        <p:sp>
          <p:nvSpPr>
            <p:cNvPr id="129" name=""/>
            <p:cNvSpPr/>
            <p:nvPr/>
          </p:nvSpPr>
          <p:spPr>
            <a:xfrm>
              <a:off x="6781680" y="5605560"/>
              <a:ext cx="1578240" cy="595080"/>
            </a:xfrm>
            <a:prstGeom prst="flowChartProcess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15240" y="2905200"/>
              <a:ext cx="1276200" cy="2700360"/>
            </a:xfrm>
            <a:prstGeom prst="flowChart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15240" y="2395440"/>
              <a:ext cx="1276200" cy="534960"/>
            </a:xfrm>
            <a:prstGeom prst="flowChartProcess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46880" y="2335320"/>
              <a:ext cx="401760" cy="5950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46880" y="4059360"/>
              <a:ext cx="401760" cy="6555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16880" y="5670720"/>
              <a:ext cx="167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Entgelt ne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0800000">
              <a:off x="7035840" y="2904840"/>
              <a:ext cx="911880" cy="26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Grundentgelt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neu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10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48640" y="1800360"/>
              <a:ext cx="1344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680160" y="1974960"/>
              <a:ext cx="1676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50240" y="2395440"/>
              <a:ext cx="9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X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16880" y="1836720"/>
              <a:ext cx="1890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5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Leistungsentge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5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ne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34800" y="2496960"/>
            <a:ext cx="1395720" cy="3703680"/>
            <a:chOff x="334800" y="2496960"/>
            <a:chExt cx="1395720" cy="3703680"/>
          </a:xfrm>
        </p:grpSpPr>
        <p:sp>
          <p:nvSpPr>
            <p:cNvPr id="141" name=""/>
            <p:cNvSpPr/>
            <p:nvPr/>
          </p:nvSpPr>
          <p:spPr>
            <a:xfrm>
              <a:off x="368280" y="5605560"/>
              <a:ext cx="1362240" cy="595080"/>
            </a:xfrm>
            <a:prstGeom prst="flowChartProcess">
              <a:avLst/>
            </a:prstGeom>
            <a:solidFill>
              <a:srgbClr val="c0c0c0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8200" y="3643200"/>
              <a:ext cx="1006560" cy="19623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8200" y="3060720"/>
              <a:ext cx="1008000" cy="582480"/>
            </a:xfrm>
            <a:prstGeom prst="flowChartProcess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3200" y="5664240"/>
              <a:ext cx="127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 Narrow"/>
                </a:rPr>
                <a:t>Zeitloh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0800000">
              <a:off x="839880" y="3565080"/>
              <a:ext cx="485280" cy="19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Grundlohn 3.32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28480" y="3110040"/>
              <a:ext cx="1030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 Narrow"/>
                </a:rPr>
                <a:t>Leistungs-zulage 73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8480" y="2521080"/>
              <a:ext cx="1013040" cy="5284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4800" y="2496960"/>
              <a:ext cx="13608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Zuschl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(5% = 20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758960" y="2513160"/>
            <a:ext cx="1677960" cy="3686040"/>
            <a:chOff x="1758960" y="2513160"/>
            <a:chExt cx="1677960" cy="3686040"/>
          </a:xfrm>
        </p:grpSpPr>
        <p:sp>
          <p:nvSpPr>
            <p:cNvPr id="150" name=""/>
            <p:cNvSpPr/>
            <p:nvPr/>
          </p:nvSpPr>
          <p:spPr>
            <a:xfrm>
              <a:off x="1866960" y="5603760"/>
              <a:ext cx="1409760" cy="595440"/>
            </a:xfrm>
            <a:prstGeom prst="flowChartProcess">
              <a:avLst/>
            </a:prstGeom>
            <a:solidFill>
              <a:srgbClr val="c0c0c0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82960" y="3643200"/>
              <a:ext cx="1006200" cy="19623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2960" y="2513160"/>
              <a:ext cx="1006200" cy="1130040"/>
            </a:xfrm>
            <a:prstGeom prst="flowChartProcess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0800000">
              <a:off x="2335320" y="3568680"/>
              <a:ext cx="485280" cy="19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Grundlohn 3.32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52640" y="2535120"/>
              <a:ext cx="1324080" cy="11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Akkord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verdien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1.3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58960" y="5691240"/>
              <a:ext cx="167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 Narrow"/>
                </a:rPr>
                <a:t>Akkordloh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36600" y="2930400"/>
            <a:ext cx="805644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FD5C-7E0A-4795-B292-A513D2D2448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7480" y="762120"/>
            <a:ext cx="8164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 Narrow"/>
              </a:rPr>
              <a:t>Ziel: erster Schritt – gemeinsames Einstiegsentgelt</a:t>
            </a:r>
            <a:endParaRPr b="1" lang="en-US" sz="2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81680" y="64008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201680" y="6213600"/>
            <a:ext cx="4783320" cy="263520"/>
            <a:chOff x="1201680" y="6213600"/>
            <a:chExt cx="4783320" cy="263520"/>
          </a:xfrm>
        </p:grpSpPr>
        <p:sp>
          <p:nvSpPr>
            <p:cNvPr id="160" name=""/>
            <p:cNvSpPr/>
            <p:nvPr/>
          </p:nvSpPr>
          <p:spPr>
            <a:xfrm>
              <a:off x="1201680" y="6213600"/>
              <a:ext cx="4303800" cy="263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95280" y="6288120"/>
              <a:ext cx="176400" cy="112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560600" y="6213600"/>
              <a:ext cx="27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hngruppe/Gehaltsgrup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17920" y="6288120"/>
              <a:ext cx="179640" cy="112680"/>
            </a:xfrm>
            <a:prstGeom prst="rect">
              <a:avLst/>
            </a:prstGeom>
            <a:solidFill>
              <a:srgbClr val="0000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57680" y="6213600"/>
              <a:ext cx="1327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ffekti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461360" y="609912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Zahlen in 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711600" y="2062080"/>
            <a:ext cx="2589120" cy="728640"/>
            <a:chOff x="3711600" y="2062080"/>
            <a:chExt cx="2589120" cy="728640"/>
          </a:xfrm>
        </p:grpSpPr>
        <p:sp>
          <p:nvSpPr>
            <p:cNvPr id="167" name=""/>
            <p:cNvSpPr/>
            <p:nvPr/>
          </p:nvSpPr>
          <p:spPr>
            <a:xfrm>
              <a:off x="3811680" y="2074680"/>
              <a:ext cx="2465280" cy="64944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11600" y="2062080"/>
              <a:ext cx="258912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Höhe 2.760 DM </a:t>
              </a:r>
              <a:br>
                <a:rPr sz="1800"/>
              </a:b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 + Lohnerhöhung für 200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424160" y="1608120"/>
            <a:ext cx="2081160" cy="1490400"/>
            <a:chOff x="1424160" y="1608120"/>
            <a:chExt cx="2081160" cy="1490400"/>
          </a:xfrm>
        </p:grpSpPr>
        <p:sp>
          <p:nvSpPr>
            <p:cNvPr id="170" name=""/>
            <p:cNvSpPr/>
            <p:nvPr/>
          </p:nvSpPr>
          <p:spPr>
            <a:xfrm>
              <a:off x="2449440" y="2768400"/>
              <a:ext cx="94464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8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 Narrow"/>
                </a:rPr>
                <a:t>1.13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24160" y="2768400"/>
              <a:ext cx="10252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 Narrow"/>
                </a:rPr>
                <a:t>Gesam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49440" y="2479680"/>
              <a:ext cx="9446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2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24160" y="2479680"/>
              <a:ext cx="102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GGr.1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49440" y="2193840"/>
              <a:ext cx="9446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6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24160" y="2193840"/>
              <a:ext cx="10252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GGr. 1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49440" y="1893600"/>
              <a:ext cx="94464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5000"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 Narrow"/>
                </a:rPr>
                <a:t>78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424160" y="1893600"/>
              <a:ext cx="102528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5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 Narrow"/>
                </a:rPr>
                <a:t>LoGr.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49440" y="1608120"/>
              <a:ext cx="10558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Perso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24160" y="1608120"/>
              <a:ext cx="10252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Beleg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24160" y="1608120"/>
              <a:ext cx="19890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24160" y="3098520"/>
              <a:ext cx="1998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24160" y="1608120"/>
              <a:ext cx="0" cy="1476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424320" y="1608120"/>
              <a:ext cx="0" cy="1481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24160" y="276840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36760" y="1928520"/>
              <a:ext cx="198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49440" y="1608120"/>
              <a:ext cx="0" cy="14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 flipH="1">
            <a:off x="581040" y="3675240"/>
            <a:ext cx="7819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085240" y="2819520"/>
            <a:ext cx="0" cy="82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790200" y="2854440"/>
            <a:ext cx="7140960" cy="3296520"/>
            <a:chOff x="790200" y="2854440"/>
            <a:chExt cx="7140960" cy="3296520"/>
          </a:xfrm>
        </p:grpSpPr>
        <p:sp>
          <p:nvSpPr>
            <p:cNvPr id="190" name=""/>
            <p:cNvSpPr/>
            <p:nvPr/>
          </p:nvSpPr>
          <p:spPr>
            <a:xfrm>
              <a:off x="1246320" y="2960640"/>
              <a:ext cx="147600" cy="6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0200" y="28544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7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19400" y="3376440"/>
              <a:ext cx="3236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19400" y="3376440"/>
              <a:ext cx="3236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60600" y="3693960"/>
              <a:ext cx="398520" cy="20494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85960" y="4119480"/>
              <a:ext cx="335160" cy="164160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01960" y="3541680"/>
              <a:ext cx="311400" cy="22147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89520" y="3697200"/>
              <a:ext cx="312840" cy="205920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77080" y="3962520"/>
              <a:ext cx="320400" cy="17938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074000" y="3371760"/>
              <a:ext cx="312480" cy="2384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28880" y="3389400"/>
              <a:ext cx="312840" cy="2367000"/>
            </a:xfrm>
            <a:prstGeom prst="rect">
              <a:avLst/>
            </a:prstGeom>
            <a:solidFill>
              <a:srgbClr val="0000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25800" y="3592440"/>
              <a:ext cx="312840" cy="2163960"/>
            </a:xfrm>
            <a:prstGeom prst="rect">
              <a:avLst/>
            </a:prstGeom>
            <a:solidFill>
              <a:srgbClr val="0000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13360" y="3303720"/>
              <a:ext cx="312480" cy="2452680"/>
            </a:xfrm>
            <a:prstGeom prst="rect">
              <a:avLst/>
            </a:prstGeom>
            <a:solidFill>
              <a:srgbClr val="0000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02360" y="3363840"/>
              <a:ext cx="311040" cy="2392560"/>
            </a:xfrm>
            <a:prstGeom prst="rect">
              <a:avLst/>
            </a:prstGeom>
            <a:solidFill>
              <a:srgbClr val="0000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97480" y="3524400"/>
              <a:ext cx="312840" cy="2232000"/>
            </a:xfrm>
            <a:prstGeom prst="rect">
              <a:avLst/>
            </a:prstGeom>
            <a:solidFill>
              <a:srgbClr val="0000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86480" y="3100320"/>
              <a:ext cx="311400" cy="2656080"/>
            </a:xfrm>
            <a:prstGeom prst="rect">
              <a:avLst/>
            </a:prstGeom>
            <a:solidFill>
              <a:srgbClr val="0000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00040" y="2960640"/>
              <a:ext cx="0" cy="2852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32000" y="5756400"/>
              <a:ext cx="54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32000" y="5187960"/>
              <a:ext cx="5400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32000" y="4626000"/>
              <a:ext cx="54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32000" y="4059360"/>
              <a:ext cx="54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86000" y="5756400"/>
              <a:ext cx="6543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1386000" y="5756040"/>
              <a:ext cx="1440" cy="50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2473200" y="5756040"/>
              <a:ext cx="1800" cy="50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3568680" y="5756040"/>
              <a:ext cx="1440" cy="50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4657680" y="5756040"/>
              <a:ext cx="0" cy="50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746680" y="5756040"/>
              <a:ext cx="0" cy="50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6842160" y="5756040"/>
              <a:ext cx="1440" cy="50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7929720" y="5756040"/>
              <a:ext cx="1440" cy="50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6200000">
              <a:off x="6973200" y="4333320"/>
              <a:ext cx="558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.16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6200000">
              <a:off x="5887440" y="4569840"/>
              <a:ext cx="558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.53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6200000">
              <a:off x="1369800" y="4390920"/>
              <a:ext cx="73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.75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6200000">
              <a:off x="2532960" y="4584960"/>
              <a:ext cx="679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.32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6200000">
              <a:off x="3658680" y="438012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.93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6200000">
              <a:off x="4792320" y="4484160"/>
              <a:ext cx="558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.76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6200000">
              <a:off x="7251840" y="4171320"/>
              <a:ext cx="601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.52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6200000">
              <a:off x="6142320" y="4406400"/>
              <a:ext cx="55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.96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1758240" y="4395960"/>
              <a:ext cx="67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.13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6200000">
              <a:off x="2874960" y="4461840"/>
              <a:ext cx="601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.86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6200000">
              <a:off x="4012560" y="4295880"/>
              <a:ext cx="56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.255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5103360" y="4333320"/>
              <a:ext cx="558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.18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53800" y="5653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56880" y="50878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58600" y="452592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58600" y="39560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2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58600" y="339732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19280" y="5907240"/>
              <a:ext cx="70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oGr.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26560" y="5907240"/>
              <a:ext cx="901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GGr. 1a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14120" y="5907240"/>
              <a:ext cx="901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GGr. 1a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90960" y="5907240"/>
              <a:ext cx="70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oGr.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890680" y="5907240"/>
              <a:ext cx="91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GGr. 1b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77880" y="5907240"/>
              <a:ext cx="91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GGr. 1b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75280" y="3697200"/>
              <a:ext cx="314280" cy="26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85960" y="3692520"/>
              <a:ext cx="335160" cy="431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 flipV="1">
            <a:off x="4992840" y="2768760"/>
            <a:ext cx="0" cy="846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34160" y="1801800"/>
            <a:ext cx="2062080" cy="98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Narrow"/>
              </a:rPr>
              <a:t>Blaue Entgeltlinie (fikti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Erster Angleichungs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schritt fü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Einstiegsentge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F17E-9CCB-45F0-9EED-1A415772A3B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639720"/>
            <a:ext cx="815328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Belegung der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ehaltsgruppen</a:t>
            </a:r>
            <a:r>
              <a:rPr b="1" lang="en-US" sz="21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1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zur ersten Bereinigung für das Einstiegseinkommen</a:t>
            </a:r>
            <a:endParaRPr b="1" lang="en-US" sz="2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78000" y="1724040"/>
            <a:ext cx="3236760" cy="45007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 Narrow"/>
              </a:rPr>
              <a:t>Gehaltsgruppe Pers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Ia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         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Ib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       2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II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    4.1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III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  16.4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IV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  35.2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V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  53.87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VI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  54.6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 Narrow"/>
              </a:rPr>
              <a:t>VII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 Narrow"/>
              </a:rPr>
              <a:t>  55.3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Tarif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220.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 Narrow"/>
              </a:rPr>
              <a:t>ÜT ca. 16 %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 Narrow"/>
              </a:rPr>
              <a:t>  41.9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Gesamt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261.9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757680" y="1724040"/>
            <a:ext cx="4973400" cy="1265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haltsgrup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a + 1b  =   352 Personen =   0,16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s Tarifbereic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41840" y="3227400"/>
            <a:ext cx="5002200" cy="2587680"/>
          </a:xfrm>
          <a:prstGeom prst="rect">
            <a:avLst/>
          </a:prstGeom>
          <a:noFill/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azit: Vom Tarifentgelt werden max.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a. 350 Personen von einer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ereinigung betr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Vom Effektivverdienst liegen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ie Einkommen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esentlich höher Konsequenz:  Forderung nach 2.760 Mark Einstiegsentge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81680" y="6172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Quelle: VBM Statist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E19E-88AF-4D10-A014-02E9D57D95C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9T13:14:06Z</dcterms:created>
  <dc:creator>Schuppach-Lwowski</dc:creator>
  <dc:description/>
  <dc:language>en-US</dc:language>
  <cp:lastModifiedBy>Ortsjugendauschuß Vst. Nbg</cp:lastModifiedBy>
  <dcterms:modified xsi:type="dcterms:W3CDTF">2001-05-27T16:42:23Z</dcterms:modified>
  <cp:revision>187</cp:revision>
  <dc:subject/>
  <dc:title>Tarifrunde 2001/2002</dc:title>
</cp:coreProperties>
</file>