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93F-E47C-48E9-A4E0-891A23FB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D62-514A-4BFB-8876-1349981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00A-7DAE-4EB3-A271-D4236072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4BE-D5E4-4F72-8D73-9ABCFDBE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A69-BCDB-4FD2-A71F-7742A78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A22-3536-4174-994D-CD71BF4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6A5-3845-4CA8-A0C7-DDF5E7D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F2B-E53E-4072-B7D4-B94EA96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506-9256-4356-B853-6ED7E58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919-780B-4C04-AB8D-88F2159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484-FDB9-4BD9-B4A4-96389F1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C57-245F-42DF-BB9C-1C6B5EB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54FB2A4-116D-47E6-BECA-050FAE596F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Zukunft Tarif: Gute ARBEIT – gutes 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Y-neu-kl.jpg" descr=""/>
          <p:cNvPicPr/>
          <p:nvPr/>
        </p:nvPicPr>
        <p:blipFill>
          <a:blip r:embed="rId2"/>
          <a:stretch/>
        </p:blipFill>
        <p:spPr>
          <a:xfrm>
            <a:off x="7772400" y="152280"/>
            <a:ext cx="1004760" cy="90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6181560" y="3612240"/>
            <a:ext cx="56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30000"/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IG Metall Bayern/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A/RPo/O/Praesent/010426ERA-Start-1/Verwendung mit Quellenangabe erwüns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cc0000"/>
                </a:solidFill>
                <a:uFillTx/>
                <a:latin typeface="Arial"/>
              </a:rPr>
              <a:t>Tarifrunde 2001/2002</a:t>
            </a:r>
            <a:endParaRPr b="1" lang="en-US" sz="41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09680" y="3200040"/>
            <a:ext cx="4572000" cy="180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0" spc="-1" strike="noStrike">
                <a:solidFill>
                  <a:srgbClr val="000099"/>
                </a:solidFill>
                <a:latin typeface="Arial Black"/>
              </a:rPr>
              <a:t>E R A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in Bayer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101-B554-4CE4-8D84-2AD09A8876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81040" y="761760"/>
            <a:ext cx="727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elegung der Lohngruppen: Zeitlohn</a:t>
            </a:r>
            <a:endParaRPr b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1728720"/>
            <a:ext cx="5181840" cy="20480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hngruppe 1 –  6 = 52.623 Beschäftigte = 26,8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hngruppe 7 –10 = 143.240 Beschäftigte = 73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samt: 195.863 Beschäftigte =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800" y="1724040"/>
            <a:ext cx="3048120" cy="4689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ahl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Lohngruppe       Beschäftig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2.7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1.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2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20.2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24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43.2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8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51.4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9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37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10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 11.3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samt: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5.8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1" lang="de-DE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= 45 % der gewerbl. Arbeit-nehmer der bayerischen Metall- und Elektro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3699000"/>
            <a:ext cx="5181840" cy="26013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zit: Ein Verzicht von ca. 53.000 Beschäftigten für eine Veränderung der Entgeltstrukture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kommt nicht in F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onsequenz:  Forderung eines Zuschlags im Zeitlohn für die Lohngruppen 1 bis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97760" y="629460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Quelle: VBM Statis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D23-2904-4EAF-AAB1-984BD66BF6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2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ffektivverdienste (1997) nach Regionen</a:t>
            </a:r>
            <a:br>
              <a:rPr sz="24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hngruppe 7 und Gehaltsgruppe III/4.Gruppenjahr</a:t>
            </a:r>
            <a:endParaRPr b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724040"/>
          <a:ext cx="886140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4040"/>
                    <a:ext cx="886140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889280" y="544356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eine Ang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C67-F07C-4435-AF17-B4C26CC294A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ionale Unterschiede im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haltsniveau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: Effektivgehälter 1997 - Gehaltsgruppe III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81040" y="1724040"/>
          <a:ext cx="7571880" cy="4617720"/>
        </p:xfrm>
        <a:graphic>
          <a:graphicData uri="http://schemas.openxmlformats.org/drawingml/2006/table">
            <a:tbl>
              <a:tblPr/>
              <a:tblGrid>
                <a:gridCol w="2013480"/>
                <a:gridCol w="3222360"/>
                <a:gridCol w="483480"/>
                <a:gridCol w="1852560"/>
              </a:tblGrid>
              <a:tr h="9212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y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äftigte in Pro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er Angestellten 7,6 Pro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if zu effek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GrJ   9,4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GrJ 14,0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83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burg (West-Ost Oberfrank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6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7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ünchen / Ober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9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derbayern / Oberpfa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,4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,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6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d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6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5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hw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9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4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terfran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5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2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2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8670960" y="211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81F-0281-48A8-BE39-FFA72E2D25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8640" y="762120"/>
            <a:ext cx="796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cc0000"/>
                </a:solidFill>
                <a:uFillTx/>
                <a:latin typeface="Arial"/>
              </a:rPr>
              <a:t>Regionale Unterschiede im Lohnniveau</a:t>
            </a:r>
            <a:br>
              <a:rPr sz="3000"/>
            </a:b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asis: Effektivlöhne 1997 - Zeitlöhner Lohngruppe 7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81040" y="1724040"/>
          <a:ext cx="7679880" cy="4647960"/>
        </p:xfrm>
        <a:graphic>
          <a:graphicData uri="http://schemas.openxmlformats.org/drawingml/2006/table">
            <a:tbl>
              <a:tblPr/>
              <a:tblGrid>
                <a:gridCol w="2042280"/>
                <a:gridCol w="3268440"/>
                <a:gridCol w="490320"/>
                <a:gridCol w="1878840"/>
              </a:tblGrid>
              <a:tr h="9165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äftigte in Proz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er Gewerblichen  21,5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if zu effek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,0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53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burg (West-Ost Oberfrank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5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ünchen / Ober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7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derbayern / Oberpfa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,4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,86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dbay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,4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68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hw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,31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,47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terfran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4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,98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70960" y="211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14778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889-3ED7-4D9D-B0CB-4223143A2D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men und Vorgehe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arifliche Vereinbarung zur Entgeltumwandl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ohn- und Gehaltserhöhung 200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ualifizierung, Weiterbild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eil eines 13. Monatseinkomme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7BC-5725-4008-9B79-A7B10C02D4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80680" y="1723680"/>
            <a:ext cx="8196120" cy="46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Ziel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reichen eines gemeinsamen Entgeltrahmentarifvertrages mit einer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meinsamen Entgeltlinie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gebenenfalls über einen ersten Zwischenschritt 2002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ündigung der Entgeltbestimmungen 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s dem Arbeiter-Manteltarifvertrag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ündigung des Manteltarifvertrages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gestellte zum 28.2.2002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8B9-0DDB-4582-8B64-F59D5BF6C9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Diskussion über einen ersten Schritt zur Angleichung der Entgeltlinie:</a:t>
            </a:r>
            <a:endParaRPr b="1" lang="en-US" sz="2400" spc="-1" strike="noStrike">
              <a:solidFill>
                <a:srgbClr val="cc0000"/>
              </a:solidFill>
              <a:latin typeface="Arial Narrow"/>
            </a:endParaRPr>
          </a:p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uschlag“ für Zeitlöhner in Höhe von X %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oder alternativ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rhöhung des Punktwertes bei der Leistungsbeurteilung für Gewerbliche</a:t>
            </a:r>
            <a:endParaRPr b="1" lang="en-US" sz="28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 Narrow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stlegung einer gemeinsamen untersten tariflichen Entgeltlinie (Basis LGr. 2 Arbeiter)</a:t>
            </a:r>
            <a:endParaRPr b="1" lang="en-US" sz="2800" spc="-1" strike="noStrike">
              <a:solidFill>
                <a:srgbClr val="cc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362-5BF8-4D02-82C2-C7D0F5FB4C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7877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Tarifliche Vereinbarung zur Entgeltumwandlu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Zentrale  oder regionale Regelung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pätestens 31.12.2001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rsuch bis Mitte 2002 ein 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ür betriebliche Altersvorsorge zu verhandeln</a:t>
            </a:r>
            <a:endParaRPr b="1" i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Pensionskasse, Pensionsfonds)</a:t>
            </a:r>
            <a:endParaRPr b="1" i="1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 Narrow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ine Verbindung des Themas Altersvorsorge mit Tarifrunde 200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32C-ECBF-4B2D-A42F-8124042E79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81040" y="1752480"/>
            <a:ext cx="815328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ohn- und Gehaltserhöhung 200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 September: Diskussion über Forderungsvolum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klusive erster Schritt in Richtung einer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einheitlichen Entgeltlini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(„Zuschlag“ für Zeitlöhner etc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vember / Dezember 2001: Delegiertenversammlung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nuar 2002:  Beschluss Tarifkommis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Wichtig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Verhindern, dass die Lohn- und Gehaltshöhe durc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onstige Themen belastet wir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FA0-C330-470A-B6F9-152B6823D6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340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ualifizierung und Weiterbildu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ine tarifpolitischen Aktivitäten in 2001 oder Tarifrunde 2002 zum Thema Qualifizierung / Weiterbildu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s Thema ist im Rahmen der ERA-Verhandlungen zu bearbeite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A6B-2721-4C0E-86F1-E349E2DC09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Inhalte der Präsentation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Das Tarifwerk heu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Konzept: Tarifwerk zukünfti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Umwandlung von Entlohnungsarten und Leistungs-komponenten am Beispiel Lohngruppe 7/Gehaltsgruppe II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Wirkung eines ersten Angleichungsschrittes für Zeitlöhn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Ziel: Erster Schritt –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gemeinsames Einstiegsentgelt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166-E93E-4304-AD32-880A49FD1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cc0000"/>
                </a:solidFill>
                <a:uFillTx/>
                <a:latin typeface="Arial"/>
              </a:rPr>
              <a:t>Tarifrunde 2001 / 2002</a:t>
            </a:r>
            <a:endParaRPr b="1" lang="en-US" sz="35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.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eil eines 13. Monatseinkomme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ine Forderung zum Thema Teil eine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3. Monatseinkommen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Vorgehe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rauf einstellen, dass die Kündigung durch die Arbeitgeber erfolg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5CA-2CC3-4B11-82B1-234021E382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ERA ein tarifpolitisches Projekt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46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r erreichbar wenn sich viele intensiv beteilige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der betrieblichen Debatte (BR/Vertrauenskörp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Schulungs- und Informationsveranstalt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Funktionärs-/Mitgliederversamml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Betriebsversammlun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Gesprächen mit Mitgliedern/Nichtmitglieder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i der notwendigen Mobilisierung zur Tarifrun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469-6CEC-43E1-871F-BF12A2E923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53960" y="1738440"/>
            <a:ext cx="6566040" cy="37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elen Dank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ür die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fmerksamkei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BF1-6149-49CC-994E-C10DBFCF63D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Inhalte der Präsentation II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legung der Gehaltsgruppen zur ersten Bereinig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ür das Einstiegseinkomm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legung der Lohngruppen im Zeitlohn Bayer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ektivverdienste (1997) nach Region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onale Unterschiede im Gehaltsnivea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is: Effektivgehälter 1997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runde 2001 / 200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men und Vorgeh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D34-36F3-4F32-95A6-6928A732C0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as Tarifwerk heute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3120" y="2362320"/>
            <a:ext cx="23623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mit a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ntgeltbestimmung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447920"/>
            <a:ext cx="2590920" cy="761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ohn- und Gehalt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t Ausbildungsvergü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362320"/>
            <a:ext cx="22096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tersteilz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2408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schäftig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üc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96252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schäftig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0060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ermögenswirk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is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641920"/>
            <a:ext cx="220968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nstige Verträ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39000" y="2362320"/>
            <a:ext cx="2342880" cy="297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gestel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mit a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ntgeltbestimm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207-F80D-4FC3-B428-665478D0CF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as zukünftige Tarifwerk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205740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447920"/>
            <a:ext cx="4724280" cy="7617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uer gemeinsamer Entgeltrahmentarifver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ür Arbeiter, Angestellte u. Auszubild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362320"/>
            <a:ext cx="472428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hn-/Gehalts-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usbildungsvergütungsabko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472428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onstige Ver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3200400"/>
            <a:ext cx="213372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t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rifver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gestel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76720"/>
            <a:ext cx="472428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tersteil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96252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schäftigungsbr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57200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schäftigungs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81480"/>
            <a:ext cx="472428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mögenswirksame Leis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0EF-FC11-4152-A372-164B66E8D9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875880"/>
            <a:ext cx="807732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Umwandeln bisheriger Entlohnungsarten und Leistungskomponenten </a:t>
            </a:r>
            <a:br>
              <a:rPr sz="3000"/>
            </a:b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m Beispiel Lohngr. 7/GGr III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9600" y="62006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4760" y="3075120"/>
            <a:ext cx="1415880" cy="3179520"/>
            <a:chOff x="374760" y="3075120"/>
            <a:chExt cx="1415880" cy="3179520"/>
          </a:xfrm>
        </p:grpSpPr>
        <p:sp>
          <p:nvSpPr>
            <p:cNvPr id="72" name=""/>
            <p:cNvSpPr/>
            <p:nvPr/>
          </p:nvSpPr>
          <p:spPr>
            <a:xfrm>
              <a:off x="374760" y="5654520"/>
              <a:ext cx="141588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00" y="3675240"/>
              <a:ext cx="1046160" cy="197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0800" y="3075120"/>
              <a:ext cx="1046160" cy="60012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2920" y="571356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Zeit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822240" y="3609720"/>
              <a:ext cx="485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480" y="3137040"/>
              <a:ext cx="1165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 Narrow"/>
                </a:rPr>
                <a:t>Leistungs-zulage 7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53040" y="1976400"/>
            <a:ext cx="1535040" cy="4278240"/>
            <a:chOff x="5153040" y="1976400"/>
            <a:chExt cx="1535040" cy="4278240"/>
          </a:xfrm>
        </p:grpSpPr>
        <p:sp>
          <p:nvSpPr>
            <p:cNvPr id="79" name=""/>
            <p:cNvSpPr/>
            <p:nvPr/>
          </p:nvSpPr>
          <p:spPr>
            <a:xfrm>
              <a:off x="5153040" y="5654520"/>
              <a:ext cx="153504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2400" y="2955960"/>
              <a:ext cx="1114560" cy="2698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32400" y="2475000"/>
              <a:ext cx="1114560" cy="48096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53040" y="5713560"/>
              <a:ext cx="15350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Geh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 Gruppen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400000">
              <a:off x="5778720" y="3323880"/>
              <a:ext cx="48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2400" y="4514760"/>
              <a:ext cx="11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geh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2000" y="1976400"/>
              <a:ext cx="1113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 Narrow"/>
                </a:rPr>
                <a:t>Leistungs-zul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49600" y="2355840"/>
            <a:ext cx="1465200" cy="3898800"/>
            <a:chOff x="3549600" y="2355840"/>
            <a:chExt cx="1465200" cy="3898800"/>
          </a:xfrm>
        </p:grpSpPr>
        <p:sp>
          <p:nvSpPr>
            <p:cNvPr id="87" name=""/>
            <p:cNvSpPr/>
            <p:nvPr/>
          </p:nvSpPr>
          <p:spPr>
            <a:xfrm>
              <a:off x="3549600" y="5654520"/>
              <a:ext cx="146520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5400000">
              <a:off x="3291840" y="4142520"/>
              <a:ext cx="1979280" cy="104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3800" y="2355840"/>
              <a:ext cx="1025640" cy="131940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rä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600" y="5713560"/>
              <a:ext cx="14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räm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7040" y="4873680"/>
              <a:ext cx="83808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688080" y="1816200"/>
            <a:ext cx="2019240" cy="4438440"/>
            <a:chOff x="6688080" y="1816200"/>
            <a:chExt cx="2019240" cy="4438440"/>
          </a:xfrm>
        </p:grpSpPr>
        <p:sp>
          <p:nvSpPr>
            <p:cNvPr id="93" name=""/>
            <p:cNvSpPr/>
            <p:nvPr/>
          </p:nvSpPr>
          <p:spPr>
            <a:xfrm>
              <a:off x="7035840" y="5654520"/>
              <a:ext cx="1639800" cy="600120"/>
            </a:xfrm>
            <a:prstGeom prst="flowChartProcess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4080" y="2938320"/>
              <a:ext cx="1326960" cy="27162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74080" y="2416320"/>
              <a:ext cx="1326960" cy="539640"/>
            </a:xfrm>
            <a:prstGeom prst="flowChartProcess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8080" y="2355840"/>
              <a:ext cx="417600" cy="600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88080" y="4094280"/>
              <a:ext cx="417600" cy="660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67440" y="5718240"/>
              <a:ext cx="17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ntgelt n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7039440" y="3986640"/>
              <a:ext cx="164340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entgelt </a:t>
              </a:r>
              <a:r>
                <a:rPr b="1" lang="de-DE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05680" y="1816200"/>
              <a:ext cx="139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7440" y="1938240"/>
              <a:ext cx="173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3760" y="24163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0440" y="1882800"/>
              <a:ext cx="16956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eistungsentge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74960" y="2535120"/>
            <a:ext cx="1473120" cy="3719520"/>
            <a:chOff x="1974960" y="2535120"/>
            <a:chExt cx="1473120" cy="3719520"/>
          </a:xfrm>
        </p:grpSpPr>
        <p:sp>
          <p:nvSpPr>
            <p:cNvPr id="105" name=""/>
            <p:cNvSpPr/>
            <p:nvPr/>
          </p:nvSpPr>
          <p:spPr>
            <a:xfrm>
              <a:off x="1974960" y="5654520"/>
              <a:ext cx="1463400" cy="60012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55680" y="3675240"/>
              <a:ext cx="1046160" cy="197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5680" y="2535120"/>
              <a:ext cx="1046160" cy="114012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2416320" y="3600000"/>
              <a:ext cx="48528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55680" y="2655720"/>
              <a:ext cx="104148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kkor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er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94040" y="5737320"/>
              <a:ext cx="14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kkord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3080" y="2955960"/>
            <a:ext cx="83660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4AF-4657-49AF-B399-8728FB1236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16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Wirkung eines Angleichungsschrittes </a:t>
            </a:r>
            <a:br>
              <a:rPr sz="3000"/>
            </a:b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ür Zeitlöhner</a:t>
            </a:r>
            <a:endParaRPr b="1" lang="en-US" sz="3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62164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68720" y="1836720"/>
            <a:ext cx="1478160" cy="4363920"/>
            <a:chOff x="4968720" y="1836720"/>
            <a:chExt cx="1478160" cy="4363920"/>
          </a:xfrm>
        </p:grpSpPr>
        <p:sp>
          <p:nvSpPr>
            <p:cNvPr id="115" name=""/>
            <p:cNvSpPr/>
            <p:nvPr/>
          </p:nvSpPr>
          <p:spPr>
            <a:xfrm>
              <a:off x="4968720" y="5605560"/>
              <a:ext cx="147816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2930400"/>
              <a:ext cx="1073160" cy="267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38720" y="2454120"/>
              <a:ext cx="1073160" cy="476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68720" y="5664240"/>
              <a:ext cx="14781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Geh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. Gruppenja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5400000">
              <a:off x="5571720" y="3291120"/>
              <a:ext cx="48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38720" y="4476600"/>
              <a:ext cx="114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Grund-geh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40160" y="1836720"/>
              <a:ext cx="1071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Narrow"/>
                </a:rPr>
                <a:t>Leistungs-zu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24320" y="2335320"/>
            <a:ext cx="1411200" cy="3865320"/>
            <a:chOff x="3424320" y="2335320"/>
            <a:chExt cx="1411200" cy="3865320"/>
          </a:xfrm>
        </p:grpSpPr>
        <p:sp>
          <p:nvSpPr>
            <p:cNvPr id="123" name=""/>
            <p:cNvSpPr/>
            <p:nvPr/>
          </p:nvSpPr>
          <p:spPr>
            <a:xfrm>
              <a:off x="3424320" y="5605560"/>
              <a:ext cx="141120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400000">
              <a:off x="3148560" y="4120560"/>
              <a:ext cx="1962360" cy="1005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27360" y="2335320"/>
              <a:ext cx="1005120" cy="13078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rä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4320" y="5664240"/>
              <a:ext cx="14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räm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4120" y="4832280"/>
              <a:ext cx="806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46880" y="1800360"/>
            <a:ext cx="2160720" cy="4400280"/>
            <a:chOff x="6446880" y="1800360"/>
            <a:chExt cx="2160720" cy="4400280"/>
          </a:xfrm>
        </p:grpSpPr>
        <p:sp>
          <p:nvSpPr>
            <p:cNvPr id="129" name=""/>
            <p:cNvSpPr/>
            <p:nvPr/>
          </p:nvSpPr>
          <p:spPr>
            <a:xfrm>
              <a:off x="6781680" y="5605560"/>
              <a:ext cx="1578240" cy="595080"/>
            </a:xfrm>
            <a:prstGeom prst="flowChartProcess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5240" y="2905200"/>
              <a:ext cx="1276200" cy="27003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240" y="2395440"/>
              <a:ext cx="1276200" cy="534960"/>
            </a:xfrm>
            <a:prstGeom prst="flowChartProcess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6880" y="2335320"/>
              <a:ext cx="401760" cy="59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46880" y="4059360"/>
              <a:ext cx="401760" cy="655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6880" y="5670720"/>
              <a:ext cx="167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ntgelt n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7035840" y="2904840"/>
              <a:ext cx="911880" cy="26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Grundentgelt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8640" y="1800360"/>
              <a:ext cx="13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80160" y="197496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0240" y="239544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6880" y="1836720"/>
              <a:ext cx="189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istungsentg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4800" y="2496960"/>
            <a:ext cx="1395720" cy="3703680"/>
            <a:chOff x="334800" y="2496960"/>
            <a:chExt cx="1395720" cy="3703680"/>
          </a:xfrm>
        </p:grpSpPr>
        <p:sp>
          <p:nvSpPr>
            <p:cNvPr id="141" name=""/>
            <p:cNvSpPr/>
            <p:nvPr/>
          </p:nvSpPr>
          <p:spPr>
            <a:xfrm>
              <a:off x="368280" y="5605560"/>
              <a:ext cx="1362240" cy="59508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8200" y="3643200"/>
              <a:ext cx="1006560" cy="1962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8200" y="3060720"/>
              <a:ext cx="1008000" cy="5824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200" y="5664240"/>
              <a:ext cx="127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Zeit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839880" y="3565080"/>
              <a:ext cx="485280" cy="19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480" y="3110040"/>
              <a:ext cx="103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 Narrow"/>
                </a:rPr>
                <a:t>Leistungs-zulage 7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8480" y="2521080"/>
              <a:ext cx="1013040" cy="528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" y="2496960"/>
              <a:ext cx="13608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Zusch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5% = 20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58960" y="2513160"/>
            <a:ext cx="1677960" cy="3686040"/>
            <a:chOff x="1758960" y="2513160"/>
            <a:chExt cx="1677960" cy="3686040"/>
          </a:xfrm>
        </p:grpSpPr>
        <p:sp>
          <p:nvSpPr>
            <p:cNvPr id="150" name=""/>
            <p:cNvSpPr/>
            <p:nvPr/>
          </p:nvSpPr>
          <p:spPr>
            <a:xfrm>
              <a:off x="1866960" y="5603760"/>
              <a:ext cx="1409760" cy="595440"/>
            </a:xfrm>
            <a:prstGeom prst="flowChartProcess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2960" y="3643200"/>
              <a:ext cx="1006200" cy="1962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2960" y="2513160"/>
              <a:ext cx="1006200" cy="113004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2335320" y="3568680"/>
              <a:ext cx="485280" cy="19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Grundlohn 3.3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52640" y="2535120"/>
              <a:ext cx="1324080" cy="11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kkor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er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.3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8960" y="5691240"/>
              <a:ext cx="16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kkordl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36600" y="2930400"/>
            <a:ext cx="8056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F94-2A8F-40C3-BAD5-E236B49B3E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7480" y="762120"/>
            <a:ext cx="8164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Ziel: erster Schritt – gemeinsames Einstiegsentgelt</a:t>
            </a:r>
            <a:endParaRPr b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64008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01680" y="6213600"/>
            <a:ext cx="4783320" cy="263520"/>
            <a:chOff x="1201680" y="6213600"/>
            <a:chExt cx="4783320" cy="263520"/>
          </a:xfrm>
        </p:grpSpPr>
        <p:sp>
          <p:nvSpPr>
            <p:cNvPr id="160" name=""/>
            <p:cNvSpPr/>
            <p:nvPr/>
          </p:nvSpPr>
          <p:spPr>
            <a:xfrm>
              <a:off x="1201680" y="6213600"/>
              <a:ext cx="4303800" cy="263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6288120"/>
              <a:ext cx="176400" cy="112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0600" y="6213600"/>
              <a:ext cx="27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hngruppe/Gehaltsgrup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17920" y="6288120"/>
              <a:ext cx="179640" cy="1126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7680" y="6213600"/>
              <a:ext cx="13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ffekt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461360" y="60991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ahlen in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11600" y="2062080"/>
            <a:ext cx="2589120" cy="728640"/>
            <a:chOff x="3711600" y="2062080"/>
            <a:chExt cx="2589120" cy="728640"/>
          </a:xfrm>
        </p:grpSpPr>
        <p:sp>
          <p:nvSpPr>
            <p:cNvPr id="167" name=""/>
            <p:cNvSpPr/>
            <p:nvPr/>
          </p:nvSpPr>
          <p:spPr>
            <a:xfrm>
              <a:off x="3811680" y="2074680"/>
              <a:ext cx="2465280" cy="6494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11600" y="2062080"/>
              <a:ext cx="25891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Höhe 2.760 DM </a:t>
              </a:r>
              <a:br>
                <a:rPr sz="1800"/>
              </a:b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 + Lohnerhöhung für 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4160" y="1608120"/>
            <a:ext cx="2081160" cy="1490400"/>
            <a:chOff x="1424160" y="1608120"/>
            <a:chExt cx="2081160" cy="1490400"/>
          </a:xfrm>
        </p:grpSpPr>
        <p:sp>
          <p:nvSpPr>
            <p:cNvPr id="170" name=""/>
            <p:cNvSpPr/>
            <p:nvPr/>
          </p:nvSpPr>
          <p:spPr>
            <a:xfrm>
              <a:off x="2449440" y="2768400"/>
              <a:ext cx="9446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1.1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24160" y="2768400"/>
              <a:ext cx="1025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Gesa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9440" y="2479680"/>
              <a:ext cx="944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24160" y="2479680"/>
              <a:ext cx="102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Gr.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9440" y="2193840"/>
              <a:ext cx="944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24160" y="2193840"/>
              <a:ext cx="1025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Gr. 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49440" y="1893600"/>
              <a:ext cx="9446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Narrow"/>
                </a:rPr>
                <a:t>7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1893600"/>
              <a:ext cx="10252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Narrow"/>
                </a:rPr>
                <a:t>LoGr.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9440" y="1608120"/>
              <a:ext cx="1055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4160" y="1608120"/>
              <a:ext cx="102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ele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24160" y="1608120"/>
              <a:ext cx="1989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4160" y="3098520"/>
              <a:ext cx="199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4160" y="1608120"/>
              <a:ext cx="0" cy="147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4320" y="1608120"/>
              <a:ext cx="0" cy="148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24160" y="276840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36760" y="19285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9440" y="1608120"/>
              <a:ext cx="0" cy="14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581040" y="3675240"/>
            <a:ext cx="78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85240" y="2819520"/>
            <a:ext cx="0" cy="82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90200" y="2854440"/>
            <a:ext cx="7140960" cy="3296520"/>
            <a:chOff x="790200" y="2854440"/>
            <a:chExt cx="7140960" cy="3296520"/>
          </a:xfrm>
        </p:grpSpPr>
        <p:sp>
          <p:nvSpPr>
            <p:cNvPr id="190" name=""/>
            <p:cNvSpPr/>
            <p:nvPr/>
          </p:nvSpPr>
          <p:spPr>
            <a:xfrm>
              <a:off x="1246320" y="2960640"/>
              <a:ext cx="14760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200" y="2854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19400" y="3376440"/>
              <a:ext cx="323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19400" y="3376440"/>
              <a:ext cx="323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60600" y="3693960"/>
              <a:ext cx="398520" cy="2049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5960" y="4119480"/>
              <a:ext cx="335160" cy="16416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1960" y="3541680"/>
              <a:ext cx="311400" cy="2214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9520" y="3697200"/>
              <a:ext cx="312840" cy="20592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7080" y="3962520"/>
              <a:ext cx="320400" cy="1793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74000" y="3371760"/>
              <a:ext cx="312480" cy="2384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28880" y="3389400"/>
              <a:ext cx="312840" cy="236700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5800" y="3592440"/>
              <a:ext cx="312840" cy="216396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3360" y="3303720"/>
              <a:ext cx="312480" cy="24526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2360" y="3363840"/>
              <a:ext cx="311040" cy="239256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97480" y="3524400"/>
              <a:ext cx="312840" cy="223200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6480" y="3100320"/>
              <a:ext cx="311400" cy="2656080"/>
            </a:xfrm>
            <a:prstGeom prst="rect">
              <a:avLst/>
            </a:prstGeom>
            <a:solidFill>
              <a:srgbClr val="0000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0040" y="2960640"/>
              <a:ext cx="0" cy="2852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2000" y="575640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2000" y="5187960"/>
              <a:ext cx="540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2000" y="462600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059360"/>
              <a:ext cx="54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86000" y="5756400"/>
              <a:ext cx="654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38600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473200" y="5756040"/>
              <a:ext cx="180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6868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657680" y="5756040"/>
              <a:ext cx="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46680" y="5756040"/>
              <a:ext cx="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4216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929720" y="5756040"/>
              <a:ext cx="144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973200" y="433332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.16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887440" y="456984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5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369800" y="439092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7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532960" y="4584960"/>
              <a:ext cx="6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3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3658680" y="4380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9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4792320" y="448416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76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7251840" y="4171320"/>
              <a:ext cx="6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5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6142320" y="4406400"/>
              <a:ext cx="55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.96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1758240" y="4395960"/>
              <a:ext cx="67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1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2874960" y="4461840"/>
              <a:ext cx="6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.86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4012560" y="4295880"/>
              <a:ext cx="56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25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103360" y="4333320"/>
              <a:ext cx="55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.1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3800" y="565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6880" y="5087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8600" y="45259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8600" y="39560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600" y="3397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19280" y="590724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r.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6560" y="59072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a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4120" y="59072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a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0960" y="590724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r.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0680" y="590724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b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7880" y="590724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Gr. 1b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75280" y="3697200"/>
              <a:ext cx="314280" cy="26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5960" y="3692520"/>
              <a:ext cx="33516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4992840" y="2768760"/>
            <a:ext cx="0" cy="84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4160" y="1801800"/>
            <a:ext cx="2062080" cy="98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Narrow"/>
              </a:rPr>
              <a:t>Blaue Entgeltlinie (fikt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rster Angleichung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schritt fü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instiegsentg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979-2902-45EC-BD49-993F50E399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3972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legung de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haltsgruppen</a:t>
            </a:r>
            <a:r>
              <a:rPr b="1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1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ur ersten Bereinigung für das Einstiegseinkommen</a:t>
            </a:r>
            <a:endParaRPr b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" y="1724040"/>
            <a:ext cx="3236760" cy="450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Gehaltsgruppe Pers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a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    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b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   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  4.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I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16.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IV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35.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53.8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VI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  54.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VII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  55.3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arif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220.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ÜT ca. 16 %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 Narrow"/>
              </a:rPr>
              <a:t>  41.9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Gesamt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261.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7680" y="1724040"/>
            <a:ext cx="4973400" cy="1265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haltsgru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a + 1b  =   352 Personen =   0,1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 Tarifberei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3227400"/>
            <a:ext cx="5002200" cy="258768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zit: Vom Tarifentgelt werden max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. 350 Personen von ein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ereinigung betr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om Effektivverdienst lieg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 Einkomm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esentlich höher Konsequenz:  Forderung nach 2.760 Mark Einstiegsentg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Quelle: VBM Stat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G Metall Bayer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82-5C93-48B4-8658-DC3D9A5249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13:14:06Z</dcterms:created>
  <dc:creator>Schuppach-Lwowski</dc:creator>
  <dc:description/>
  <dc:language>en-US</dc:language>
  <cp:lastModifiedBy>Ortsjugendauschuß Vst. Nbg</cp:lastModifiedBy>
  <dcterms:modified xsi:type="dcterms:W3CDTF">2001-05-27T16:42:23Z</dcterms:modified>
  <cp:revision>187</cp:revision>
  <dc:subject/>
  <dc:title>Tarifrunde 2001/2002</dc:title>
</cp:coreProperties>
</file>