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994-3A5C-4277-A131-A054DB78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BEF-FB29-4509-B470-512B656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17B-3A0E-4593-AB7D-4A05D9D7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771-3FCF-40D9-8A74-F591E96F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529-3EB7-43F0-AC6C-712E5CAC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AD0-6BE8-43CE-82C6-695DE271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85D-C4EE-4349-8E31-A3E4C724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09E-2876-4AA2-9E2C-30EDCD5C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8B0-3978-45AC-B099-4FF53CB0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5A6-AD71-41D2-84F6-FF21E33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279-1518-47F8-B903-1D94948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54B-9D8F-4190-967B-3C1A5C7E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olie </a:t>
            </a:r>
            <a:fld id="{A932DFB4-8986-4EC2-9C0A-074EC1E9E86D}" type="slidenum">
              <a:rPr b="1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de-DE" sz="2400" spc="-1" strike="noStrike">
                <a:solidFill>
                  <a:srgbClr val="ffffff"/>
                </a:solidFill>
                <a:latin typeface="Arial Narrow"/>
              </a:rPr>
              <a:t>Gute Arbeit – gutes Geld: ERA - Verhandlungs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Y-neu-kl.jpg" descr=""/>
          <p:cNvPicPr/>
          <p:nvPr/>
        </p:nvPicPr>
        <p:blipFill>
          <a:blip r:embed="rId2"/>
          <a:stretch/>
        </p:blipFill>
        <p:spPr>
          <a:xfrm>
            <a:off x="7772400" y="152280"/>
            <a:ext cx="1004760" cy="90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5826240" y="3636000"/>
            <a:ext cx="59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30000"/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IG Metall Bayern/ eg/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h/O/Praesent/010226ERA-Verhandl-stand/Verwendung mit Quellenangabe erwünsc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Verhandlungsstand  -  ERA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80720" y="3504960"/>
            <a:ext cx="5334120" cy="144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ositionen der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G Meta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ositionen des </a:t>
            </a:r>
            <a:r>
              <a:rPr b="1" lang="de-DE" sz="2600" spc="-1" strike="noStrike">
                <a:solidFill>
                  <a:srgbClr val="3333cc"/>
                </a:solidFill>
                <a:latin typeface="Arial"/>
              </a:rPr>
              <a:t>VB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0000"/>
                </a:solidFill>
                <a:latin typeface="Arial"/>
              </a:rPr>
              <a:t>Aktueller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Verhandlungsstan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8F7-136D-49D7-BC35-239DDBDBD5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000080"/>
            <a:ext cx="69343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Entgeltgrupp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weitung Geltungsbereich, mehr Entgeltgruppen unterhalb Fachtätig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rifliche Richtbeispiele dringend erforder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mme der Punkte aus der Bewertung der Anforderungsarten ergibt Entgeltgrup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geltstufen auf Basis Zeit ausgeschlossen, Erfahrungsanforderung geht in die Eingruppierung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nanzieller Abstand zwischen Entgeltgruppen von Anzahl der Gruppen abhäng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C4A-7362-4090-BD7D-1F9327D6DA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765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Mitbestimmung / Reklamations-/ Beteiligungsrech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ell keine Ausw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Formen der Arbe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mehr als je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Entgeltgrundsät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noch tarifliche Rahmenrege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ische Ausgestaltung in den Betr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F50-E944-4095-A439-F80AE9788D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Gewichtung der Anforderungsmerkm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666880"/>
            <a:ext cx="3276720" cy="1250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Kö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Ausbildung / Erfa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45%               1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(2-90 Punkte)      (0-25 Punk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952880"/>
            <a:ext cx="31244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13%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0 - 25 Pun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4038480"/>
            <a:ext cx="36576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Handlungsspielra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19%</a:t>
            </a: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(4 - 40 Pun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4952880"/>
            <a:ext cx="2971800" cy="82548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ü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Arial"/>
              </a:rPr>
              <a:t>10%</a:t>
            </a:r>
            <a:r>
              <a:rPr b="1" lang="de-DE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a50021"/>
                </a:solidFill>
                <a:latin typeface="Arial"/>
              </a:rPr>
              <a:t>(0 - 20 Pun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4C1-5157-4AE4-8123-D70648E400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Aktueller Verhandlungsstand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600200"/>
          <a:ext cx="8077320" cy="465120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46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 u="sng">
                          <a:solidFill>
                            <a:srgbClr val="ff3300"/>
                          </a:solidFill>
                          <a:uFillTx/>
                          <a:latin typeface="Arial Narrow"/>
                        </a:rPr>
                        <a:t>IG Me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mente zur Erreichung von Kostenneutralitä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nrechenbarkeit ÜT-Zula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längerfristige Teilanrechnung bei Tariferhöh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eduzierung der Zeitautomatik bei Gruppenjah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Vereinheitlichung Leistungszula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Rationalisierungseffe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Zeitach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Härtefallregelung mit Zustimmung IG Metall denk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indliche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inführung, aber Öffnungs-klausel für abweichende Systeme mit Zustimmung der Tarifvertragsparte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Bewertungssysteme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echnischer 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 u="sng">
                          <a:solidFill>
                            <a:srgbClr val="333399"/>
                          </a:solidFill>
                          <a:uFillTx/>
                          <a:latin typeface="Arial Narrow"/>
                        </a:rPr>
                        <a:t>V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mente zur Erreichung von Kostenneutralitä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ßerhalb der Kostenbetra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Mögl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Grundsätzlich geeign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ängt von Kriterien des Leistungsentgelts 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Höchstens Produktivitätseffe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Vom VBM gen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Vom VBM gen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reiwilligkeit </a:t>
                      </a:r>
                      <a:r>
                        <a:rPr b="1" lang="de-DE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d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Öffnungsklausel für abweichende Syst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Bewertungssysteme</a:t>
                      </a: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echnischer A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F3B-25FF-4DEE-8296-0F952BDEFE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Überblick Bezirke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1676520"/>
          <a:ext cx="7520040" cy="69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520040" cy="69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007-7E20-4AB5-B9E3-7AC9F988D3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Generelle</a:t>
            </a:r>
            <a:r>
              <a:rPr b="1" lang="de-DE" sz="3200" spc="-1" strike="noStrike" u="sng">
                <a:solidFill>
                  <a:srgbClr val="ff0000"/>
                </a:solidFill>
                <a:uFillTx/>
                <a:latin typeface="Arial Narrow"/>
              </a:rPr>
              <a:t> </a:t>
            </a: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Anforderung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meinsamer Entgelt-TV für Arbeiter und Angestel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eichwertige Aufgaben sind gleich zu vergü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Senkung des Tarif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Geltungsbereich:</a:t>
            </a: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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weiterung z. B. auf AT-Ber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B51-3142-418D-BFE9-EE538D7DB4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Eingruppieru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anzheitliche Betrachtungsweise; anforderungsorientiert; summarisch; der Person zugeordnete Entgelt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male Qualifikationsnachweise nicht maßgeb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kriteri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nntnisse / Fertigkeiten / Fäh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Kriteri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keitsgrad und Vielseitigkeit / Handlungsspielrä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531-F4F8-4698-A180-D9B457F7C4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Entgeltgrupp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halb Fachtätigkeit nur 2 Entgeltgruppen, aber zusätzliche für AT-Ber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Eingruppierungs- und Richt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geltstufen innerhalb der Entgeltgruppen mit reformierten Kriter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geringe Abstände zwischen den Entgeltgrup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0CF-5402-482F-82CA-7F78CB4E46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Mitbestimmung / Reklamations-/ Beteiligungsrech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derspruchsrecht  AN und BR bei Eingruppierung und Tätigkeitsbeschreibung (bestehende und gepla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itiativrecht BR zur Erstellung einer Tätigkeitsbeschreibung und bei Ein- und Umgruppi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ärungsinstanz: Paritätische Kom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te Mitbestimmung bei Formen der Arbeit und Entgeltgrundsät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D00-4A66-4746-9710-16A1CD2FFA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Formen der Arbei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ung zu Einzelarbeit / Gruppenarbeit / Projektarb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ung zu Fließarbeit / Taktarbeit / Mehrmaschinenarb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Entgeltgrundsätz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ntgelt mit Personalbemessung und Leistungszu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bles und konstantes Leistungsentgelt, Festlegung Arbeitspensen / Datengrund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riflicher Höchstbetrag in allen Entgeltgrundsätzen 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23C-9AAD-45DA-8A2D-858B437CE5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Differenzierung des TK Beschlusses von `93 - 15.07.9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 nicht zu einem einheitlichen Zeitpunkt; z.B. differenzierter Zeitplan, aber mit zwingendem Einführungstermin am E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lassung abweichender Entgeltsysteme mit Zustimm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IG Metall bei Festlegung tarifvertraglicher Kriterien für dies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ängende Themen w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entgelt für Angestel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men der Arbeit können vorab geregelt werden, wenn keine Blockade der Gesamt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718-6F9F-4B2A-A40C-0497C5C6C5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Anforderung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neutralität muss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wahrt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den Grundentgelten ist bisheriger Grundentgeltbereich abzude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Geltungsbere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Ausw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3B4-7B27-4788-81D6-E292C0BCCD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Eingruppierung</a:t>
            </a:r>
            <a:r>
              <a:rPr b="1" lang="de-DE" sz="3200" spc="-1" strike="noStrike" u="sng">
                <a:solidFill>
                  <a:srgbClr val="3333cc"/>
                </a:solidFill>
                <a:uFillTx/>
                <a:latin typeface="Arial Narrow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achtung der Gesamtheit der arbeitsvertraglich übertragenen Tätigkeiten oder Aufgaben; anforderungsorientiert; Entgeltgruppe wird der Tätigkeit zugeordnet; Methode „Stufenwertzahlverfahr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anforderungsmerkmal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önnen (Ausbildung / Erfahrung) /  Zusammenarbeit / Handlungsspielraum / 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Anforderungsstufen innerhalb der Anforderungsmerkm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nivea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nlernzeit, Dauer der Ausbildung, abgeschlossene berufliche Weiterbildung wie Meister, Techniker) und zusätzliche bzw. berufliche Erfa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9DC-7245-478C-8B5B-D39BCA5A63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tsjugendauschuß Vst. Nbg</cp:lastModifiedBy>
  <cp:lastPrinted>2001-01-29T14:22:14Z</cp:lastPrinted>
  <dcterms:modified xsi:type="dcterms:W3CDTF">2001-05-27T18:07:51Z</dcterms:modified>
  <cp:revision>36</cp:revision>
  <dc:subject/>
  <dc:title>PowerPoint-Präsentation</dc:title>
</cp:coreProperties>
</file>