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DFF-698E-4568-8D22-065CF082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BF2-A423-4041-9F6B-E3063593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659-84E9-41F0-A91E-D6781FB3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C50-0AB8-46E1-8F87-CAB2A29F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386-E52B-4377-9B28-FEA0858D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0426-2AF8-4BE1-8A1D-707C600E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C0B-A206-40B4-BB14-DD9C6CBF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389-DBF9-4365-BD2B-23F597CC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501-C2B1-425A-900A-A1458D6B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FF3-90E9-4CC1-B7FF-295A5D9C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2F7-A94C-4759-8010-6AD6BA06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1A3-69A6-487A-969A-46652CE7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Folie </a:t>
            </a:r>
            <a:fld id="{09147718-4CBB-46CD-AEF1-8C1B4D4F4438}" type="slidenum">
              <a:rPr b="1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de-DE" sz="2400" spc="-1" strike="noStrike">
                <a:solidFill>
                  <a:srgbClr val="ffffff"/>
                </a:solidFill>
                <a:latin typeface="Arial Narrow"/>
              </a:rPr>
              <a:t>Gute Arbeit – gutes Geld: ERA - Verhandlungs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BY-neu-kl.jpg" descr=""/>
          <p:cNvPicPr/>
          <p:nvPr/>
        </p:nvPicPr>
        <p:blipFill>
          <a:blip r:embed="rId2"/>
          <a:stretch/>
        </p:blipFill>
        <p:spPr>
          <a:xfrm>
            <a:off x="7772400" y="152280"/>
            <a:ext cx="1004760" cy="909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rot="16200000">
            <a:off x="5826240" y="3636000"/>
            <a:ext cx="59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130000"/>
              <a:buFont typeface="Times New Roman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IG Metall Bayern/ eg/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h/O/Praesent/010226ERA-Verhandl-stand/Verwendung mit Quellenangabe erwünsc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Verhandlungsstand  -  ERA</a:t>
            </a: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80720" y="3504960"/>
            <a:ext cx="5334120" cy="1447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ositionen der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G Metal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ositionen des </a:t>
            </a:r>
            <a:r>
              <a:rPr b="1" lang="de-DE" sz="2600" spc="-1" strike="noStrike">
                <a:solidFill>
                  <a:srgbClr val="3333cc"/>
                </a:solidFill>
                <a:latin typeface="Arial"/>
              </a:rPr>
              <a:t>VB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0000"/>
                </a:solidFill>
                <a:latin typeface="Arial"/>
              </a:rPr>
              <a:t>Aktueller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Verhandlungsstan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5FF-AD43-4C5F-B026-C46DD79E114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000080"/>
            <a:ext cx="69343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s VBM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cc"/>
                </a:solidFill>
                <a:uFillTx/>
                <a:latin typeface="Arial Narrow"/>
              </a:rPr>
              <a:t>Entgeltgrupp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Ausweitung Geltungsbereich, mehr Entgeltgruppen unterhalb Fachtätig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rifliche Richtbeispiele dringend erforderl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mme der Punkte aus der Bewertung der Anforderungsarten ergibt Entgeltgrup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geltstufen auf Basis Zeit ausgeschlossen, Erfahrungsanforderung geht in die Eingruppierung 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nanzieller Abstand zwischen Entgeltgruppen von Anzahl der Gruppen abhäng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C85-71AC-4B3A-BB81-48488BE45A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s VBM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6765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cc"/>
                </a:solidFill>
                <a:uFillTx/>
                <a:latin typeface="Arial Narrow"/>
              </a:rPr>
              <a:t>Mitbestimmung / Reklamations-/ Beteiligungsrech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nerell keine Ausw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cc"/>
                </a:solidFill>
                <a:uFillTx/>
                <a:latin typeface="Arial Narrow"/>
              </a:rPr>
              <a:t>Formen der Arbe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mehr als jetz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cc"/>
                </a:solidFill>
                <a:uFillTx/>
                <a:latin typeface="Arial Narrow"/>
              </a:rPr>
              <a:t>Entgeltgrundsät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noch tarifliche Rahmenrege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thodische Ausgestaltung in den Betr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ECF-F50F-4BB3-AF15-E9DB30A50B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99072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s VBM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cc"/>
                </a:solidFill>
                <a:uFillTx/>
                <a:latin typeface="Arial Narrow"/>
              </a:rPr>
              <a:t>Gewichtung der Anforderungsmerkm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2666880"/>
            <a:ext cx="3276720" cy="1250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Kö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Ausbildung / Erfah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45%               1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(2-90 Punkte)      (0-25 Punk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4952880"/>
            <a:ext cx="31244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13%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(0 - 25 Punk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4038480"/>
            <a:ext cx="36576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Handlungsspielra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cc33"/>
                </a:solidFill>
                <a:latin typeface="Arial"/>
              </a:rPr>
              <a:t>19%</a:t>
            </a:r>
            <a:r>
              <a:rPr b="1" lang="de-DE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cc33"/>
                </a:solidFill>
                <a:latin typeface="Arial"/>
              </a:rPr>
              <a:t>(4 - 40 Punk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4952880"/>
            <a:ext cx="2971800" cy="82548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Füh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Arial"/>
              </a:rPr>
              <a:t>10%</a:t>
            </a:r>
            <a:r>
              <a:rPr b="1" lang="de-DE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a50021"/>
                </a:solidFill>
                <a:latin typeface="Arial"/>
              </a:rPr>
              <a:t>(0 - 20 Punk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842-448F-4D10-B3DB-49857E2AE2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Aktueller Verhandlungsstand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600200"/>
          <a:ext cx="8077320" cy="465120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46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 u="sng">
                          <a:solidFill>
                            <a:srgbClr val="ff3300"/>
                          </a:solidFill>
                          <a:uFillTx/>
                          <a:latin typeface="Arial Narrow"/>
                        </a:rPr>
                        <a:t>IG Me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mente zur Erreichung von Kostenneutralitä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Anrechenbarkeit ÜT-Zula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längerfristige Teilanrechnung bei Tariferhöhun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eduzierung der Zeitautomatik bei Gruppenjah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Vereinheitlichung Leistungszula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Rationalisierungseffek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Zeitach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Härtefallregelung mit Zustimmung IG Metall denk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erbindliche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inführung, aber Öffnungs-klausel für abweichende Systeme mit Zustimmung der Tarifvertragsparte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Bewertungssysteme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echnischer 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 u="sng">
                          <a:solidFill>
                            <a:srgbClr val="333399"/>
                          </a:solidFill>
                          <a:uFillTx/>
                          <a:latin typeface="Arial Narrow"/>
                        </a:rPr>
                        <a:t>VB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mente zur Erreichung von Kostenneutralitä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ßerhalb der Kostenbetrach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Mögli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Grundsätzlich geeign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ängt von Kriterien des Leistungsentgelts 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Höchstens Produktivitätseffek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Vom VBM genan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Vom VBM genan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reiwilligkeit </a:t>
                      </a:r>
                      <a:r>
                        <a:rPr b="1" lang="de-DE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nd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Öffnungsklausel für abweichende Syst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Bewertungssysteme</a:t>
                      </a:r>
                      <a:r>
                        <a:rPr b="0" lang="de-DE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echnischer A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45F-0E69-4250-8753-720D4E7D43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99072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Überblick Bezirke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1676520"/>
          <a:ext cx="7520040" cy="69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520040" cy="69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1F6-323A-4701-A6FE-6175F5BC2CF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1000080"/>
            <a:ext cx="70866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r IG Metal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Generelle</a:t>
            </a:r>
            <a:r>
              <a:rPr b="1" lang="de-DE" sz="3200" spc="-1" strike="noStrike" u="sng">
                <a:solidFill>
                  <a:srgbClr val="ff0000"/>
                </a:solidFill>
                <a:uFillTx/>
                <a:latin typeface="Arial Narrow"/>
              </a:rPr>
              <a:t> </a:t>
            </a: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Anforderung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meinsamer Entgelt-TV für Arbeiter und Angestell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leichwertige Aufgaben sind gleich zu vergü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 Senkung des Tarif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Geltungsbereich:</a:t>
            </a: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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weiterung z. B. auf AT-Berei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ACF-C4FC-4BE0-9E77-84FC0DB4EC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r IG Metal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Eingruppieru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anzheitliche Betrachtungsweise; anforderungsorientiert; summarisch; der Person zugeordnete Entgelt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male Qualifikationsnachweise nicht maßgeb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ptkriteri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nntnisse / Fertigkeiten / Fäh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Kriteri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keitsgrad und Vielseitigkeit / Handlungsspielrä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F4B-445D-42CA-B874-3A9E3C1CF7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000080"/>
            <a:ext cx="70866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r IG Metal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Entgeltgrupp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halb Fachtätigkeit nur 2 Entgeltgruppen, aber zusätzliche für AT-Bere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Eingruppierungs- und Richt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geltstufen innerhalb der Entgeltgruppen mit reformierten Kriter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geringe Abstände zwischen den Entgeltgrup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A6D-A7BC-45F1-921E-FB81862F95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000080"/>
            <a:ext cx="70866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r IG Metal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Mitbestimmung / Reklamations-/ Beteiligungsrech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derspruchsrecht  AN und BR bei Eingruppierung und Tätigkeitsbeschreibung (bestehende und geplan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itiativrecht BR zur Erstellung einer Tätigkeitsbeschreibung und bei Ein- und Umgruppi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ärungsinstanz: Paritätische Kom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weiterte Mitbestimmung bei Formen der Arbeit und Entgeltgrundsät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9344-3CBC-47A3-8B4E-D49AE8EF97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000080"/>
            <a:ext cx="70866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r IG Metal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Formen der Arbei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gelung zu Einzelarbeit / Gruppenarbeit / Projektarb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gelung zu Fließarbeit / Taktarbeit / Mehrmaschinenarb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Entgeltgrundsätz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entgelt mit Personalbemessung und Leistungszu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bles und konstantes Leistungsentgelt, Festlegung Arbeitspensen / Datengrund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riflicher Höchstbetrag in allen Entgeltgrundsätzen gle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6D5-1A1D-46E3-9F22-1528E6EFDB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000080"/>
            <a:ext cx="70866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r IG Metal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0000"/>
                </a:solidFill>
                <a:uFillTx/>
                <a:latin typeface="Arial Narrow"/>
              </a:rPr>
              <a:t>Differenzierung des TK Beschlusses von `93 - 15.07.9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ührung nicht zu einem einheitlichen Zeitpunkt; z.B. differenzierter Zeitplan, aber mit zwingendem Einführungstermin am En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lassung abweichender Entgeltsysteme mit Zustimm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IG Metall bei Festlegung tarifvertraglicher Kriterien für diese 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ängende Themen w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sentgelt für Angestel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men der Arbeit können vorab geregelt werden, wenn keine Blockade der Gesamtlö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2C0-68A5-48B6-A3F9-7EE0A4E69C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s VBM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01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cc"/>
                </a:solidFill>
                <a:uFillTx/>
                <a:latin typeface="Arial Narrow"/>
              </a:rPr>
              <a:t>Anforderung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neutralität muss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trieblich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wahrt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den Grundentgelten ist bisheriger Grundentgeltbereich abzude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cc"/>
                </a:solidFill>
                <a:uFillTx/>
                <a:latin typeface="Arial Narrow"/>
              </a:rPr>
              <a:t>Geltungsbereich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Ausw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F40-AF06-41B3-9155-009E162C15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Verhandlungsposition des VBM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3333cc"/>
                </a:solidFill>
                <a:uFillTx/>
                <a:latin typeface="Arial Narrow"/>
              </a:rPr>
              <a:t>Eingruppierung</a:t>
            </a:r>
            <a:r>
              <a:rPr b="1" lang="de-DE" sz="3200" spc="-1" strike="noStrike" u="sng">
                <a:solidFill>
                  <a:srgbClr val="3333cc"/>
                </a:solidFill>
                <a:uFillTx/>
                <a:latin typeface="Arial Narrow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achtung der Gesamtheit der arbeitsvertraglich übertragenen Tätigkeiten oder Aufgaben; anforderungsorientiert; Entgeltgruppe wird der Tätigkeit zugeordnet; Methode „Stufenwertzahlverfahr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ptanforderungsmerkmal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önnen (Ausbildung / Erfahrung) /  Zusammenarbeit / Handlungsspielraum / Füh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Anforderungsstufen innerhalb der Anforderungsmerkm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nivea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Anlernzeit, Dauer der Ausbildung, abgeschlossene berufliche Weiterbildung wie Meister, Techniker) und zusätzliche bzw. berufliche Erfah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ezirk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455-D214-4ACF-B623-3C2A873608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./31.01.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rtsjugendauschuß Vst. Nbg</cp:lastModifiedBy>
  <cp:lastPrinted>2001-01-29T14:22:14Z</cp:lastPrinted>
  <dcterms:modified xsi:type="dcterms:W3CDTF">2001-05-27T18:07:51Z</dcterms:modified>
  <cp:revision>36</cp:revision>
  <dc:subject/>
  <dc:title>PowerPoint-Präsentation</dc:title>
</cp:coreProperties>
</file>