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move the slid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142640" y="5105520"/>
            <a:ext cx="4800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1897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91897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F2E5-DE9B-46D1-ADCC-75C755E12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3920" y="4635360"/>
            <a:ext cx="10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Notizen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3920" y="4635360"/>
            <a:ext cx="0" cy="12574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920" y="4635360"/>
            <a:ext cx="14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38720" y="7778880"/>
            <a:ext cx="0" cy="1020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129280" y="8799480"/>
            <a:ext cx="1009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42640" y="5105520"/>
            <a:ext cx="4800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elle:         VBM Statistik 1997 und eigene Berechnungen (1998: 2,5% / 1999: 3,2% / 2000: 3% / 2001: 2,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762-7C80-4A1E-A5C0-4E1537E6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38B-5A48-49AD-BDBC-292CEAAC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7B9-B894-47E5-A582-F1B4F78B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199-17A0-4BED-B266-FFA2C1A1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F83-712F-49F1-A361-A1650D0F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799-47DA-4839-A031-D78EEC8F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32D-9C10-4ADB-9367-949BC154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B07-2B98-4E49-8FE8-1FA329B5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8A0-6B51-48C7-96EF-5F794B76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45C-225A-436F-8705-B3464932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292-0DA5-4595-A0BC-F7837C6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BF7-9291-4E88-9377-62341B9E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olie </a:t>
            </a:r>
            <a:fld id="{CA5698C9-F0FA-4E3D-9E53-14F70D7E0919}" type="slidenum">
              <a:rPr b="1" lang="de-DE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Vergleich der Entgeltlinien in Bayer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Y-neu-kl.jpg" descr=""/>
          <p:cNvPicPr/>
          <p:nvPr/>
        </p:nvPicPr>
        <p:blipFill>
          <a:blip r:embed="rId2"/>
          <a:stretch/>
        </p:blipFill>
        <p:spPr>
          <a:xfrm>
            <a:off x="7772400" y="152280"/>
            <a:ext cx="1004760" cy="909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rot="16200000">
            <a:off x="5794200" y="3656160"/>
            <a:ext cx="603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130000"/>
              <a:buFont typeface="Times New Roman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IG Metall Bayern/ eg/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h/O/Praesent/010226ERA-Entgeltlinie2001/Verwendung mit Quellenangabe erwünsc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752480"/>
            <a:ext cx="4724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Vergleichbare Leistu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isher gleiches Geld?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5562720" cy="1447920"/>
          </a:xfrm>
          <a:prstGeom prst="rect">
            <a:avLst/>
          </a:prstGeom>
          <a:gradFill rotWithShape="0">
            <a:gsLst>
              <a:gs pos="0">
                <a:srgbClr val="a6a6d0"/>
              </a:gs>
              <a:gs pos="50000">
                <a:srgbClr val="ccccff"/>
              </a:gs>
              <a:gs pos="100000">
                <a:srgbClr val="a6a6d0"/>
              </a:gs>
            </a:gsLst>
            <a:lin ang="5400000"/>
          </a:gra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smaterialien zur Diskussion für eine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geltrah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197-1CC9-460E-8583-AB1D9E4B2DD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lohn/-Gehal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0880" y="1219320"/>
          <a:ext cx="8153640" cy="526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153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676520" y="6095880"/>
          <a:ext cx="6105240" cy="33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6095880"/>
                    <a:ext cx="6105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4A6-ABC8-41FF-AEFD-B1E86443DD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geltlinie Lohn/Gehal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83600" y="133200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hne Leistungszu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1049400"/>
          <a:ext cx="838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49400"/>
                    <a:ext cx="838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676520" y="6095880"/>
          <a:ext cx="6105240" cy="33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6095880"/>
                    <a:ext cx="6105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987-FCF5-40C8-83C4-B55F6ACDF0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akkord / Gehal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295280"/>
          <a:ext cx="830592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30592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600200" y="6172200"/>
          <a:ext cx="6105600" cy="33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6172200"/>
                    <a:ext cx="6105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D34-B6A2-4EAD-8CDD-16310E133E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prämie / Gehal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447920" y="6095880"/>
          <a:ext cx="6105240" cy="33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5880"/>
                    <a:ext cx="6105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0880" y="1295280"/>
          <a:ext cx="8153640" cy="526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95280"/>
                    <a:ext cx="8153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CC4-D36E-40FE-890C-D675F7602B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löhne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 Effektivgehälter 2001 - Zeitlohn -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362320" y="1828800"/>
          <a:ext cx="4195800" cy="380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19580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98400" y="5715000"/>
            <a:ext cx="636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nahme:  keine Veränderung Beschäftigungsstruktur, keine Veränd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eilungsstruktur, Quelle: VBM Statistik 1997 und eigene Berechn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1998: 2,5% / 1999: 3,2% /  2000: 3% / 2001: 2,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5F3-91BC-4EF6-9F31-6E446A584D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löhne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 Effektivgehälter 2001 - Akkord -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362320" y="1828800"/>
          <a:ext cx="4343400" cy="392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34340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295280" y="5791320"/>
            <a:ext cx="6629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ahme:  keine Veränderung Beschäftigungsstruktur, keine Veränd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ilungsstruktur, Quelle: VBM Statistik 1997 und eigene Berechn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998: 2,5% / 1999: 3,2% /  2000: 3% / 2001: 2,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7A9-44AB-40F1-B698-9FF1EEC115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tgeltlinie Effektivlöhne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 Effektivgehälter 2001 - Prämie -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362320" y="1828800"/>
          <a:ext cx="4267080" cy="384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26708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447920" y="5715000"/>
            <a:ext cx="693396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ahme:  keine Veränderung Beschäftigungsstruktur, keine Veränd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ilungsstruktur, Quelle: VBM Statistik 1997 und eigene Berechn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998: 2,5% / 1999: 3,2% /  2000: 3% / 2001: 2,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 - Vorlage M+E Klaus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E32-8C86-4286-84F3-213B45E7AA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18:31:56Z</dcterms:created>
  <dc:creator>Siegfried Hörmann</dc:creator>
  <dc:description/>
  <dc:language>en-US</dc:language>
  <cp:lastModifiedBy>Ortsjugendauschuß Vst. Nbg</cp:lastModifiedBy>
  <dcterms:modified xsi:type="dcterms:W3CDTF">2001-05-28T16:11:55Z</dcterms:modified>
  <cp:revision>9</cp:revision>
  <dc:subject/>
  <dc:title>PowerPoint-Präsentation</dc:title>
</cp:coreProperties>
</file>