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696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ck to move the slide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142640" y="5105520"/>
            <a:ext cx="4800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1897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91897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CB4A-FB8E-4C97-8B0E-6A4A9B853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3920" y="4635360"/>
            <a:ext cx="10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Notizen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53920" y="4635360"/>
            <a:ext cx="0" cy="12574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920" y="4635360"/>
            <a:ext cx="1400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38720" y="7778880"/>
            <a:ext cx="0" cy="1020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129280" y="8799480"/>
            <a:ext cx="10094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6960" cy="3627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142640" y="5105520"/>
            <a:ext cx="4800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Quelle:         VBM Statistik 1997 und eigene Berechnungen (1998: 2,5% / 1999: 3,2% / 2000: 3% / 2001: 2,1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3227-E421-4D45-8498-43D0E52F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423-4F74-4A78-A6E2-CD26E91A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985-9E22-479A-B658-7F202843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8703-7D64-4179-8085-366A3189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293-3776-4554-B581-792D695F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A8D3-DAC6-4726-B44C-98B1588E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C60-6CAA-4E02-9F7C-A6E4D2D5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54AB-38F3-4575-95E0-A2103025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B72-D1AE-4797-AB1F-5A41093A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E696-1D2B-4E84-94FB-E42AAA7F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CF9-4636-476A-95C1-8B658EF8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5D69-251F-43AA-90AE-77E7B02D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Folie </a:t>
            </a:r>
            <a:fld id="{A372BA2E-5A81-4ADE-BF57-04B12A8ACB21}" type="slidenum">
              <a:rPr b="1" lang="de-DE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Vergleich der Entgeltlinien in Bayern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BY-neu-kl.jpg" descr=""/>
          <p:cNvPicPr/>
          <p:nvPr/>
        </p:nvPicPr>
        <p:blipFill>
          <a:blip r:embed="rId2"/>
          <a:stretch/>
        </p:blipFill>
        <p:spPr>
          <a:xfrm>
            <a:off x="7772400" y="152280"/>
            <a:ext cx="1004760" cy="909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rot="16200000">
            <a:off x="5794200" y="3656160"/>
            <a:ext cx="603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130000"/>
              <a:buFont typeface="Times New Roman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IG Metall Bayern/ eg/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h/O/Praesent/010226ERA-Entgeltlinie2001/Verwendung mit Quellenangabe erwünsc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752480"/>
            <a:ext cx="4724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Vergleichbare Leistu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br>
              <a:rPr sz="3200"/>
            </a:b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isher gleiches Geld?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5562720" cy="1447920"/>
          </a:xfrm>
          <a:prstGeom prst="rect">
            <a:avLst/>
          </a:prstGeom>
          <a:gradFill rotWithShape="0">
            <a:gsLst>
              <a:gs pos="0">
                <a:srgbClr val="a6a6d0"/>
              </a:gs>
              <a:gs pos="50000">
                <a:srgbClr val="ccccff"/>
              </a:gs>
              <a:gs pos="100000">
                <a:srgbClr val="a6a6d0"/>
              </a:gs>
            </a:gsLst>
            <a:lin ang="5400000"/>
          </a:gradFill>
          <a:ln w="57240">
            <a:solidFill>
              <a:srgbClr val="0000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smaterialien zur Diskussion für eine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geltrahm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 - Vorlage M+E Klaus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D406-7B6A-4917-9993-6BF2458E1AB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tgeltlinie Effektivlohn/-Gehal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80880" y="1219320"/>
          <a:ext cx="8153640" cy="526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15364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676520" y="6095880"/>
          <a:ext cx="6105240" cy="33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6095880"/>
                    <a:ext cx="61052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 - Vorlage M+E Klaus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FD60-0A59-4D38-B057-C58589152A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tgeltlinie Lohn/Gehal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83600" y="133200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hne Leistungszu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80880" y="1049400"/>
          <a:ext cx="8382240" cy="541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49400"/>
                    <a:ext cx="838224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676520" y="6095880"/>
          <a:ext cx="6105240" cy="33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6095880"/>
                    <a:ext cx="61052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 - Vorlage M+E Klaus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837-D393-4F85-B836-C455F4CD38D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tgeltlinie Effektivakkord / Gehal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1295280"/>
          <a:ext cx="830592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30592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600200" y="6172200"/>
          <a:ext cx="6105600" cy="33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6172200"/>
                    <a:ext cx="61056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 - Vorlage M+E Klaus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C195-54C6-4D7E-BE41-16C71E687E2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tgeltlinie Effektivprämie / Gehal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447920" y="6095880"/>
          <a:ext cx="6105240" cy="33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5880"/>
                    <a:ext cx="61052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80880" y="1295280"/>
          <a:ext cx="8153640" cy="526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295280"/>
                    <a:ext cx="815364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 - Vorlage M+E Klaus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0ABC-4745-4A88-A39D-32B8970EECC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tgeltlinie Effektivlöhne 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d Effektivgehälter 2001 - Zeitlohn -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362320" y="1828800"/>
          <a:ext cx="4195800" cy="380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828800"/>
                    <a:ext cx="419580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598400" y="5715000"/>
            <a:ext cx="6365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nnahme:  keine Veränderung Beschäftigungsstruktur, keine Veränd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teilungsstruktur, Quelle: VBM Statistik 1997 und eigene Berechn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1998: 2,5% / 1999: 3,2% /  2000: 3% / 2001: 2,1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 - Vorlage M+E Klaus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5C44-FED3-4D6D-A48F-D512B2E2139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tgeltlinie Effektivlöhne 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d Effektivgehälter 2001 - Akkord -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362320" y="1828800"/>
          <a:ext cx="4343400" cy="392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828800"/>
                    <a:ext cx="4343400" cy="39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295280" y="5791320"/>
            <a:ext cx="66294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ahme:  keine Veränderung Beschäftigungsstruktur, keine Veränd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eilungsstruktur, Quelle: VBM Statistik 1997 und eigene Berechn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998: 2,5% / 1999: 3,2% /  2000: 3% / 2001: 2,1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 - Vorlage M+E Klaus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67DE-C67C-438A-AC2F-0A55A83BA0D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tgeltlinie Effektivlöhne 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d Effektivgehälter 2001 - Prämie -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362320" y="1828800"/>
          <a:ext cx="4267080" cy="384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828800"/>
                    <a:ext cx="426708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447920" y="5715000"/>
            <a:ext cx="693396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ahme:  keine Veränderung Beschäftigungsstruktur, keine Veränd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eilungsstruktur, Quelle: VBM Statistik 1997 und eigene Berechn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998: 2,5% / 1999: 3,2% /  2000: 3% / 2001: 2,1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 - Vorlage M+E Klaus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AC43-5915-4B09-954C-4EA1481A2EE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3T18:31:56Z</dcterms:created>
  <dc:creator>Siegfried Hörmann</dc:creator>
  <dc:description/>
  <dc:language>en-US</dc:language>
  <cp:lastModifiedBy>Ortsjugendauschuß Vst. Nbg</cp:lastModifiedBy>
  <dcterms:modified xsi:type="dcterms:W3CDTF">2001-05-28T16:11:55Z</dcterms:modified>
  <cp:revision>9</cp:revision>
  <dc:subject/>
  <dc:title>PowerPoint-Präsentation</dc:title>
</cp:coreProperties>
</file>